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4B71-2A95-4790-9176-21C2BD84B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2D39-8827-43BE-BDB3-090A97069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1C95-AF39-4F3A-B819-A07255A53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F69A-AAA7-42F1-BCD0-8A009D278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7DB1-EA5E-4401-96C0-D2606AF5D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3B2E-0E60-4E07-8243-40BD8D499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0E83-1B63-45EA-B94F-9A2910EEB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DC51-F052-4807-B260-EF3457CA4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543A-25D5-4224-A287-52487664C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E17F-BBE2-4B68-B985-90DB130C7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8EFA-25A5-4E96-8007-5D64AF224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E52E-86B9-4531-AD07-3BC1E7835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B16C4-E58D-46B5-8D8D-D021BC6B0E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oup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rriers for SimT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rriers to use of SimTk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8. Can I trust the tool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 reputation, large user 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er review (like Amaz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Tk provides demo simu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vantages for using SimT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vantages for use of SimT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tools developed by 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ver call PTC again to pay or get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teaching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source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rriers to contributing to SimT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rriers to contributing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 “freeloading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ember: you can’t get rich in biomechan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limit your contributions to non-commercial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rriers to contributing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 Will I get academic credi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it takes time to prepare a contribution to Si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loss of identity, will work be seen as Stanford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u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wcase your work to get more pub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limit your contributions to non-commercial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t your logo on your SimTk project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rriers to contributing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. Will I lose my competitive edg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decide what to share, when, and with wh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rriers to contributing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. Overhead to be SimTk complia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advantages to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vantages to contribu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vantages to contribu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ing good, “karma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wing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tability/independence/continu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ing a 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reinventing the whe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sting service, source code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ces students to leave legacy with documentation, good pract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tisfy NIH dissemination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rriers to using SimT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rriers to use of SimTk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 “not invented here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st produ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de (my tools are bett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yoff should be cl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rwin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ty: students can find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rriers to use of SimTk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 Don’t know about 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licity and advertising by Simbios ce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rriers to use of SimTk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. Support/continu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o big to di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gets paid to provide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w user group (and its competence) by trai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e to SD/Fast: not well supported, continuity uncert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rriers to use of SimTk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. Use of legacy models and co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Tk plans to provide file translators and code emulators (e.g. SD/Fas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rriers to use of SimTk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. Too hard to lear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: course materials and courses at Simb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end user applications (OpenSi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rriers to use of SimTk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. Students prefer Matla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Tk will provide Matlab MEX file wrappers (and python, Java, et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rriers to use of SimTk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7. I will have to share my 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misunderstanding: you can use SimTk without contribu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obert F. Kirsch</cp:lastModifiedBy>
  <dcterms:modified xsi:type="dcterms:W3CDTF">2006-06-01T23:38:19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