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BF0-6C95-4A2A-A6CE-47A298FA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9C9-E2A6-43D4-A054-80137923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F49-1CE5-4EE1-B6F6-AFFB4A88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7BF-9436-418D-9E02-A06C9FF7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AFC-5703-4203-95B0-91FCBBFD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EDA-4898-4185-95B6-885340D6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9B4-50E9-46B2-B8E2-32AB2603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394-C33F-434C-945E-61B459E4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505-4385-479F-BB34-26F1522B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37C-85C4-4734-9930-DB2742C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91F-3D7A-4F69-88E7-676B67D9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462-B0CB-44AD-9FB4-323ECAC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C1D5-4887-41ED-9E98-C3E3EFA79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hyperlink" Target="http://www.simtk.org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380880"/>
          <a:ext cx="2751120" cy="18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275112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800600" y="152280"/>
          <a:ext cx="3519360" cy="254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52280"/>
                    <a:ext cx="35193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295280" y="26668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27672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Broad impact &amp;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Algorithms, applications, &amp; resources (public or priv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Secure distributed development (gfor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Mailing lists, forums, bug &amp; feature database, news, blog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Backups, off-site storag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6668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imtk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5:14:20Z</dcterms:created>
  <dc:creator>Mitiguy</dc:creator>
  <dc:description/>
  <dc:language>en-US</dc:language>
  <cp:lastModifiedBy>Mitiguy</cp:lastModifiedBy>
  <dcterms:modified xsi:type="dcterms:W3CDTF">2006-06-02T15:22:15Z</dcterms:modified>
  <cp:revision>5</cp:revision>
  <dc:subject/>
  <dc:title>Slide 1</dc:title>
</cp:coreProperties>
</file>