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CBE-05D4-4B7E-8E27-552F5D69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491-413E-4EE0-B1FD-9C43256D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E05-AB15-4518-9216-74A06B9A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671-8C84-4D2D-ABAB-995DF1A6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FF4-4335-40D8-82FF-A78FCF3F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D3A-0D3A-4DB9-BC99-D86E27FB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B43-B33F-47E1-8827-ED815884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284-1D54-4E4D-8D6E-2526EBC4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F8A-1A71-4429-8B8C-90A17C17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D31-8E74-4A9D-AA40-6E33A4CF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9B1-4F15-4CAD-B67C-7D029B17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7FC-45C1-470A-99F8-3267877F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58F7-B8A3-4FAC-AD39-A79C47E24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Challen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biomechanical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zza, Loeb, Zajac, Anderson, Besier, John, Grende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insights during model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insights from experimenting 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clinic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actic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ed Reduc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in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ructural lay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still need from experimental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mergent properties modeled in each la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derive from the properties of the next layer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lternative constr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la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 to model of a given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to the “credit probl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to primary data support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to comparative advantages/disadvantag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to discussio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eats on use of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ions and opportunities for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s between Modelers and Experimenta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correct” reductionist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big gaps in this hierarc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s as testable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3:27:34Z</dcterms:created>
  <dc:creator>Frances Richmond</dc:creator>
  <dc:description/>
  <dc:language>en-US</dc:language>
  <cp:lastModifiedBy>Frances Richmond</cp:lastModifiedBy>
  <dcterms:modified xsi:type="dcterms:W3CDTF">2006-06-02T00:06:53Z</dcterms:modified>
  <cp:revision>3</cp:revision>
  <dc:subject/>
  <dc:title>Usefulness</dc:title>
</cp:coreProperties>
</file>