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17.wmf" ContentType="image/x-wmf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4A5-4B57-470A-AC1B-0820D4D9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69F-AF40-4D3C-8408-719B3B9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BFC-09C3-4AB1-8508-078BBF08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692-876F-4A29-9325-5B94DB28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2FD-AEE3-437C-A3F1-CE3DBAD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2F9-2F24-4C7A-BFF9-560B9955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C06-152D-4B56-914A-9553025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E8E-F4C8-4E9A-BDA8-293AC382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2F5-7D2A-445D-A59D-549091F4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1EC-CF63-4D8A-A191-F754915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89F-3529-4978-8959-308FD0E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FF4-F292-40B0-923C-52D8122E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CAC1-2C2A-4F97-9A44-EDBC8A02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ake.org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8380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c575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penSim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, Status, and Plans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f0bf76"/>
                </a:solidFill>
                <a:latin typeface="Arial"/>
              </a:rPr>
              <a:t>Science Advisor Workshop</a:t>
            </a:r>
            <a:br>
              <a:rPr sz="2400"/>
            </a:br>
            <a:r>
              <a:rPr b="1" lang="en-GB" sz="2400" spc="-1" strike="noStrike">
                <a:solidFill>
                  <a:srgbClr val="f0bf76"/>
                </a:solidFill>
                <a:latin typeface="Arial"/>
              </a:rPr>
              <a:t>June 1-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4267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Clay Anderson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, Ayman Habib, Pete Loan, and Scott D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371600" cy="60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14600" y="901800"/>
            <a:ext cx="1600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2030400"/>
            <a:ext cx="8272440" cy="3836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90920" y="2057400"/>
            <a:ext cx="3581280" cy="1143000"/>
            <a:chOff x="2590920" y="2057400"/>
            <a:chExt cx="3581280" cy="1143000"/>
          </a:xfrm>
        </p:grpSpPr>
        <p:grpSp>
          <p:nvGrpSpPr>
            <p:cNvPr id="88" name=""/>
            <p:cNvGrpSpPr/>
            <p:nvPr/>
          </p:nvGrpSpPr>
          <p:grpSpPr>
            <a:xfrm>
              <a:off x="2590920" y="2057400"/>
              <a:ext cx="3581280" cy="707760"/>
              <a:chOff x="2590920" y="2057400"/>
              <a:chExt cx="3581280" cy="707760"/>
            </a:xfrm>
          </p:grpSpPr>
          <p:sp>
            <p:nvSpPr>
              <p:cNvPr id="89" name=""/>
              <p:cNvSpPr/>
              <p:nvPr/>
            </p:nvSpPr>
            <p:spPr>
              <a:xfrm>
                <a:off x="2590920" y="2057400"/>
                <a:ext cx="3581280" cy="707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ep  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eprocess Experimental 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90920" y="2379600"/>
                <a:ext cx="358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343400" y="2819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19160" y="29718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520" y="2971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of the Gait Workflow 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scale –Setup 900045_setup_scale.xml (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ik –Setup 900045_setup_ik.xml (min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rra –Setup 900045_setup_rra.xml 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cmc –Setup 900045_setup_cmc.xml 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perturb –Setup 900045_setup_perturb.xml (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we develop facilities for executing workflows in a GU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OpenSim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-alon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Releas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006  OpenSim 0.5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006  OpenSim 0.6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OpenSim nam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 in class names and file stor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on SIMM and SD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 2006 OpenSim 0.7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supports SIMM modeling features, switching dynamics engines and integ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M muscles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 for visualizing models with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zard for executing the gait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 2006 OpenSim 0.8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body and CVODE available in Open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of SIMM modeling features in G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more dependence on SIMM / SD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cumenting and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 2007  OpenSim 0.9 (b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amlined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cumenting and broad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007  OpenSim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SIMM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body, CV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pre-made sim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for a short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gust 2007 Dissemination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ials adjunct to ASBAnnual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need additional concepts in OpenS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s, contac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mportant is interfacing with Matl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IMM features are prior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things would be most compelling t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, dynamic optimization, spee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we engage users?  W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e being too ambitio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some simple wins, killer ap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we be thinking about beyond the next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ed Reductionism” and Sherm’s Modeling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the National Institute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H Roadmap for Medical Research Grant U54 GM0729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H HD45109, HD38962, HD339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3716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penS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capabilities of SI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dynamics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/Fast (proven, but costs and requires compile s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body (free, no compile step, everything but loop j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integ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KF, CVOD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 for creating simulations from Mo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C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(plug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ctuators, controllers, analys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l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9524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disorders are a challenging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uses are not well underst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s are the targets of trea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s are often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33920" cy="302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57600" y="3809880"/>
            <a:ext cx="609480" cy="763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5334120"/>
            <a:ext cx="23623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akawa et al. (2004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Bone Jnt S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-Specif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6141960"/>
            <a:ext cx="3886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 kg, 1.7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DOF, 92 Muscles (Delp,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6019920"/>
            <a:ext cx="449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73120" cy="480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6141960"/>
            <a:ext cx="29718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cking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20 min compu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9560" y="1371600"/>
            <a:ext cx="4155840" cy="475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3280" y="3409920"/>
            <a:ext cx="68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3240" y="5410080"/>
            <a:ext cx="83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k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2800440"/>
            <a:ext cx="68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d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3240" y="4495680"/>
            <a:ext cx="788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7120" y="3105000"/>
            <a:ext cx="76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d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9280" y="14479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18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Generated with 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651400" cy="32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13120" y="1447920"/>
            <a:ext cx="3106800" cy="32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16760" y="1447920"/>
            <a:ext cx="2874960" cy="327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7200" y="541008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enerated with less than 10 minutes of CPU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8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C is a tracking algorithm, not well suited for predicting emergent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ng a simulation that replicates a subject’s gait 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the theoretically most-efficient gait cycl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C is dependent on the quality of the inpu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reaction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penS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955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736640"/>
            <a:ext cx="5333760" cy="2835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648320"/>
            <a:ext cx="53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 Anderson (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man Habib (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Loan (Musculographics / SI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666880"/>
            <a:ext cx="2362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Sim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889280"/>
            <a:ext cx="40384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Sim, Gait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352680"/>
            <a:ext cx="3810240" cy="531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VODE, RootSolve, SQP, 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ACK, Sim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920" y="6172200"/>
            <a:ext cx="85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yn Goldberg, May Liu, Ilse Jonker, Jen Hicks, Chand John, … … …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30968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-Oriented Framework for the Simulation, Control,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16676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32000" y="470844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ompute Desired Accelerations (P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93600" y="5362560"/>
                <a:ext cx="7312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447920" y="46324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89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589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06200" y="594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68880" y="594828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638680" y="2514600"/>
            <a:ext cx="304920" cy="457200"/>
            <a:chOff x="5638680" y="2514600"/>
            <a:chExt cx="304920" cy="457200"/>
          </a:xfrm>
        </p:grpSpPr>
        <p:sp>
          <p:nvSpPr>
            <p:cNvPr id="141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5638680" y="251460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1460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16676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14960" y="4708440"/>
            <a:ext cx="41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2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olve for Muscle Ex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64832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8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Integrate forwar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 (0.01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o compute                      and                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Solve static optimization problem to find                       to achieve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Root solve to find the muscle excitations        that will generate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29200" y="5181480"/>
                <a:ext cx="1130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615000" y="5181480"/>
                <a:ext cx="1157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76920" y="5618160"/>
                <a:ext cx="1089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78760" y="5611680"/>
                <a:ext cx="8985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12000" y="6186600"/>
                <a:ext cx="1089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67200" y="6240600"/>
                <a:ext cx="238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5638680" y="2514600"/>
            <a:ext cx="304920" cy="457200"/>
            <a:chOff x="5638680" y="2514600"/>
            <a:chExt cx="304920" cy="457200"/>
          </a:xfrm>
        </p:grpSpPr>
        <p:sp>
          <p:nvSpPr>
            <p:cNvPr id="156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5638680" y="251460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1460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21932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41760" y="477684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3:  Integrate from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t+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4956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38680" y="2590920"/>
            <a:ext cx="304920" cy="457200"/>
            <a:chOff x="5638680" y="2590920"/>
            <a:chExt cx="304920" cy="457200"/>
          </a:xfrm>
        </p:grpSpPr>
        <p:sp>
          <p:nvSpPr>
            <p:cNvPr id="164" name=""/>
            <p:cNvSpPr/>
            <p:nvPr/>
          </p:nvSpPr>
          <p:spPr>
            <a:xfrm>
              <a:off x="5715000" y="2819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38680" y="259092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9092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22724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78600" y="5394240"/>
            <a:ext cx="61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Repeat Steps 1, 2, and 3, until the final time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124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>
            <a:off x="7923960" y="2955600"/>
            <a:ext cx="608760" cy="2662560"/>
          </a:xfrm>
          <a:prstGeom prst="bentConnector3">
            <a:avLst>
              <a:gd name="adj1" fmla="val -52426"/>
            </a:avLst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rot="10800000">
            <a:off x="456480" y="3026520"/>
            <a:ext cx="913680" cy="2596320"/>
          </a:xfrm>
          <a:prstGeom prst="bentConnector3">
            <a:avLst>
              <a:gd name="adj1" fmla="val 132163"/>
            </a:avLst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</p:cxnSp>
      <p:grpSp>
        <p:nvGrpSpPr>
          <p:cNvPr id="178" name=""/>
          <p:cNvGrpSpPr/>
          <p:nvPr/>
        </p:nvGrpSpPr>
        <p:grpSpPr>
          <a:xfrm>
            <a:off x="5638680" y="2590920"/>
            <a:ext cx="304920" cy="457200"/>
            <a:chOff x="5638680" y="2590920"/>
            <a:chExt cx="304920" cy="457200"/>
          </a:xfrm>
        </p:grpSpPr>
        <p:sp>
          <p:nvSpPr>
            <p:cNvPr id="179" name=""/>
            <p:cNvSpPr/>
            <p:nvPr/>
          </p:nvSpPr>
          <p:spPr>
            <a:xfrm>
              <a:off x="5715000" y="2819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638680" y="259092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9092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648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2360" y="1897200"/>
            <a:ext cx="8639280" cy="4276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359000" y="2755800"/>
            <a:ext cx="1562040" cy="25416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610160"/>
            <a:ext cx="1981080" cy="50796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20840" y="5740560"/>
            <a:ext cx="1422360" cy="22860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05440" y="3111480"/>
            <a:ext cx="2235240" cy="2158920"/>
            <a:chOff x="5905440" y="3111480"/>
            <a:chExt cx="2235240" cy="2158920"/>
          </a:xfrm>
        </p:grpSpPr>
        <p:sp>
          <p:nvSpPr>
            <p:cNvPr id="189" name=""/>
            <p:cNvSpPr/>
            <p:nvPr/>
          </p:nvSpPr>
          <p:spPr>
            <a:xfrm>
              <a:off x="5905440" y="3111480"/>
              <a:ext cx="2235240" cy="304920"/>
            </a:xfrm>
            <a:prstGeom prst="ellipse">
              <a:avLst/>
            </a:prstGeom>
            <a:noFill/>
            <a:ln w="38160">
              <a:solidFill>
                <a:srgbClr val="cc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5016600"/>
              <a:ext cx="1562040" cy="253800"/>
            </a:xfrm>
            <a:prstGeom prst="ellipse">
              <a:avLst/>
            </a:prstGeom>
            <a:noFill/>
            <a:ln w="38160">
              <a:solidFill>
                <a:srgbClr val="cc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auses Suggest Different 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3D, Muscle-Actuated Simulations of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84080" y="1952640"/>
          <a:ext cx="7378920" cy="45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952640"/>
                    <a:ext cx="73789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521360" y="5105520"/>
            <a:ext cx="17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amaguchi &amp; Zaj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9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43640" y="5121360"/>
            <a:ext cx="166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erson &amp; Pa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4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9920" y="1311120"/>
            <a:ext cx="205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u, Jonkers, Arno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len, Anderson, D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92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2057400"/>
            <a:ext cx="12952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60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3640" y="4876920"/>
            <a:ext cx="130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e et al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lers et 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60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rb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1674720"/>
            <a:ext cx="8229600" cy="29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04920" y="5457960"/>
          <a:ext cx="65530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457960"/>
                    <a:ext cx="6553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60080" y="461628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ld other active forces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1320" y="59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412040" y="5484960"/>
          <a:ext cx="150336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12040" y="5484960"/>
                    <a:ext cx="1503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309920" y="622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467480" y="5943600"/>
          <a:ext cx="1195560" cy="31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7480" y="5943600"/>
                    <a:ext cx="11955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1306440"/>
            <a:ext cx="5943600" cy="5399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Joint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897520" y="2117160"/>
            <a:ext cx="1579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74760" y="1657440"/>
          <a:ext cx="4714920" cy="21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657440"/>
                    <a:ext cx="47149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308240" y="4060800"/>
          <a:ext cx="6997680" cy="257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4060800"/>
                    <a:ext cx="6997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rot="16200000">
            <a:off x="756720" y="543708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33280" y="1258200"/>
            <a:ext cx="3610440" cy="2354400"/>
            <a:chOff x="1133280" y="1258200"/>
            <a:chExt cx="3610440" cy="2354400"/>
          </a:xfrm>
        </p:grpSpPr>
        <p:sp>
          <p:nvSpPr>
            <p:cNvPr id="222" name=""/>
            <p:cNvSpPr/>
            <p:nvPr/>
          </p:nvSpPr>
          <p:spPr>
            <a:xfrm>
              <a:off x="1938600" y="1258200"/>
              <a:ext cx="28051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 Knee Accel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tension 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03400" y="2345400"/>
              <a:ext cx="21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deg/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fle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Extension in Early Swing for 6 Subjects at 4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lan (Nuclear Bo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Desig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ab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tr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410440" cy="377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97520" y="41911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8380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506520"/>
            <a:ext cx="6553440" cy="619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859160" y="5329080"/>
            <a:ext cx="114696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im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79160" y="1752480"/>
            <a:ext cx="10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KF 5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8120" y="1752480"/>
            <a:ext cx="99288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16000" y="1752480"/>
            <a:ext cx="66528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1640" y="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penSim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IMM Dynamics Pipeline but using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Unix 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ke is a cross-platform compile syste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make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g is an automated wrapper generation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he barrier for developers and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for extending OpenSim (analyses, actuators, controll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im Developer’s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im API Reference (Doxy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lined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s directed at solving you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User Interface (G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imulation Accessible-  OpenSim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12492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0" y="2743200"/>
            <a:ext cx="213372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 Visualization using V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0960" y="6172200"/>
            <a:ext cx="34754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and and Scripting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523880"/>
            <a:ext cx="266688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imation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743200"/>
            <a:ext cx="1676520" cy="885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, Model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im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257800"/>
            <a:ext cx="205740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ion Progr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743200" cy="248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76720" y="5203800"/>
            <a:ext cx="99036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o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s and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quivalent to something you’d normally write in a main 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dynamic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set of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-specific Simulation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09:06Z</dcterms:created>
  <dc:creator>Frank C. Anderson</dc:creator>
  <dc:description/>
  <dc:language>en-US</dc:language>
  <cp:lastModifiedBy>Frank C. Anderson</cp:lastModifiedBy>
  <dcterms:modified xsi:type="dcterms:W3CDTF">2006-06-02T15:38:57Z</dcterms:modified>
  <cp:revision>330</cp:revision>
  <dc:subject/>
  <dc:title>Slide 1</dc:title>
</cp:coreProperties>
</file>