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F57-FD95-4371-B6D4-171DB430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EF2-315B-4CDF-BCC6-6BE1A257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4AD-CBEB-40A5-8525-621972C2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02E-0D13-4C78-9944-156A4F98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84A3-2DAB-4953-BF28-13D3F413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14A4-8E85-44EA-95AC-A492470F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69BE-128B-4854-9122-75EF4FCF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4344-3217-40BC-B257-70D15022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888E-E39A-4615-8F65-BE621C47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990F-037C-40CF-AAD7-B2429052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BC46-432C-4F23-A150-065F4F87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3F8-0C6C-4DA2-A196-614E4C8C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A9D2-5B58-4E75-9E5F-BA4491F4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C824-38D6-4C8D-A5C9-A7F754E3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D329-8FE4-48CC-939B-F87402A1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5FDE-8B36-4E30-A595-095EC20B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0E6F-1904-4319-B728-90CBC74D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55820-89F8-4AED-9639-94E71B67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7874E-8E03-4C64-AEE8-A6B5CD63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EFBAA-88E9-4790-BAB1-CC62C7F4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7D53-5D58-4A1F-99F7-2D548F32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3BB53-E892-42C7-A429-D06C1516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C14-4EAB-4E64-BCE4-06E59481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85911-C1F6-4749-A96D-41F35DB5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2DC0-91E7-46C3-B615-F07BD705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5F0A8-6834-4486-9121-69184D24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04741-290C-4977-9345-15D6D70D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F75E-033E-4444-8ED9-9BFE83A9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0336-B164-438A-A789-C66C38D5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B0CA-A3C7-450D-80D4-C72E0B0F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7308B-6E0E-4EBD-8DDC-1164DBCC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AFB88-8348-4529-B658-C2472D59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8F53C-5156-4ED5-97A7-B9889F2B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7D5-842D-4ACA-A274-8DEFA927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AD513-4F19-4A10-A6B8-8F6E13AE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22B31-812D-4A45-A95B-BC177BF3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66229-5C63-4C3C-B426-145F482E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78D9E-D787-4F6F-BBF4-BB614315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3177B-97D4-476D-A24D-7F97DEA0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A3B22-7996-4542-9894-D82CF1E7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3311A-087F-43AB-A84D-4D307EC1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2612D-C005-4878-9770-B931B3CE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8691F-A026-4110-BB89-BB087EFD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869-2BB8-4FDC-9F04-96D7B0CC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5A0-5A8A-4570-AD40-513C8930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10E-CF99-4186-ABEC-D32F6FB7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65D-25E6-42E8-B36B-F1767CA8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C69-1D35-44FB-A7FF-9699C7EF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64AA-C0CB-4C3F-A41F-40E1A7738954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BDE4-529E-4182-92CD-B0CE5BF692A6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974F-970E-45E9-BA4B-1A9DE15EAD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8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3B26-730B-4006-AFD6-F4DE1E0F86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Design of course to teach simulation using SimTK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ryl, Jill, Rick, Paul, Kate, R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requisi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mechan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ed in l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d rigid body / inverse dyna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sure to any language (logi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 course geared toward grad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K for ME, BIOE, K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torial b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 to fi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musculoskeletal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ulate animal/human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nents of generic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/apply advanced analysis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al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all goal: training your students to learn and use simulation for particular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urricul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40640" indent="-440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labs (1-2 weeks eac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ematic MS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rque-actuated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cle tendon model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cle-actuated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ical optim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sis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0640" indent="-440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ized l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ted by liter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sider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time spent on programming and more on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ms sorted by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 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class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hared re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base of courses offer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l commun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s and lectur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2:36:15Z</dcterms:created>
  <dc:creator>JSH</dc:creator>
  <dc:description/>
  <dc:language>en-US</dc:language>
  <cp:lastModifiedBy>NMB student</cp:lastModifiedBy>
  <dcterms:modified xsi:type="dcterms:W3CDTF">2006-06-01T23:35:24Z</dcterms:modified>
  <cp:revision>7</cp:revision>
  <dc:subject/>
  <dc:title>Slide 1</dc:title>
</cp:coreProperties>
</file>