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2AA-CD61-42F9-B37D-9AFB3716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849-EE36-436C-B385-5C895B83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EE4-1C30-4270-80B3-2D2C2CFD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76B-EC07-44B4-8E50-E28B3A1C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AE3F-EBAF-4DCD-ABA5-768CB716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EA9E-B161-434A-BC48-E369966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EB23-6653-477F-837C-C48BC4F9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197-E9BD-4B87-AC54-EAC529A9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F224-0E3D-46EC-84BA-5DFC58D8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EB16-786A-4C52-9D58-65080899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3E4A-CD2F-4B13-A330-232239B4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6FC-2903-4A90-B685-99FDF820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3AC-45B8-426B-B1AC-FCCF864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079F-3D5F-4120-978B-DF279FF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CE46-E6DD-4D0F-8D6F-6E62B1DF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383E-E3C9-4E43-9564-77259DF5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A599-A13C-40D0-B6C7-BF2CC6DC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2C1-339F-4ECA-991E-079838CB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0F3-603F-45E1-AF27-F78129A2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A5A-D632-440B-BE4A-4598820B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3CA-30BF-4B85-9238-3757819D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EB1-6143-49E2-9B1C-78ED1F0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9B0-DCBA-4474-BCD8-5529FC1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1F0-55EA-4F27-80FF-ACDB297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C1A-8B1A-4FC9-81E9-6EC83A3CC8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B423-D8EA-4C9F-8B4F-54A6850D1B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ummary of Scientific Goals &amp; Features Needed to Achieve The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ndy Murra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 Buchan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an Garn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ff Reinho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se Jon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ison Arn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ter Lo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cientific Goal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the neuromusculoskeletal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ate the model (input and outp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(Understand the interaction of components of the biomechanical syst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 the model parame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ftware Features Nee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e that allows the user to compare model performance to experimental data through visu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s work associated with external data and maximizes the user’s ability to evaluate the model’s perform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tures such as scripts, templates, visual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 Scaling and Specif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cated issue, but tools for scaling for each subject and inputting specific subject data are 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scale segment lengths &amp; inertias, MT paths/parameters, joint kinema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an high quality generic model and good scaling algorithms so that we can readily scale generic data. We also need to have a performance measure so that one can argue “because I’ve scaled it I made it better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ftware Features Nee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muscle activations/forces during movement using dynamic optimization or EM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rse compatible with SI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imaging data readi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Lab compat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Sp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llel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y to use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and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listed today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tools (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ols to import experimental gait data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&amp; improved scalable full-body model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ter numerical integrators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accurate methods for modeling muscle path geometry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ynamics engine with no compile step or restrictions (Simbody?)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 neuromuscular control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bility of simulations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predictive capabilities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ailed ms models (microscopic)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ficient models (force enhancement, depression, activation-deactivation, etc.) (R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imation-making tool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ne editing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nable to parallelization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ue dynamic optimization (end points specified, not path)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scale modeling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real-time simulations for VR and patient training (RD/G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s for handling contact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s for processing surface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rapping surface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accurate methods for modeling muscle path geometry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rporation of latest &amp; greatest methods (will only old things be public domain) (Tvd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tools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bust excitation patterns (J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d loop kinematics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nematic dependence on multiple dof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d muscle wrapping including branch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active scal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sier user-interface for parameter edit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act model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ter foot-floor modeling—incompressible hyperelastic solid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grated elastic-foundation contact modeling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act model with friction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rtilage model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sophisticated muscle-tendon models—architecture, force generation, fascia, ligament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sis tools with better user interface (J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stomizable/usability balance—comment all code and tell user what is changeable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users appreciate that SimTK is not a model; generic model may not generalize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andability/modularity (TS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icult to calibrate a generic, parametric model to the patient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ick, easy, clear, concise, intuitive, powerful, versatile, &amp; effective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al environment &amp; math functions 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UI that can be used by researchers and clinicians (RD/G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46:48Z</dcterms:created>
  <dc:creator>Thomas S. Buchanan</dc:creator>
  <dc:description/>
  <dc:language>en-US</dc:language>
  <cp:lastModifiedBy>Thomas S. Buchanan</cp:lastModifiedBy>
  <dcterms:modified xsi:type="dcterms:W3CDTF">2006-06-02T05:13:51Z</dcterms:modified>
  <cp:revision>6</cp:revision>
  <dc:subject/>
  <dc:title>Summary of scientific goals &amp; features needed to achieve them</dc:title>
</cp:coreProperties>
</file>