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400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8316D98-EDF3-48B8-A811-4F6957DF8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ife" TargetMode="External"/><Relationship Id="rId2" Type="http://schemas.openxmlformats.org/officeDocument/2006/relationships/hyperlink" Target="http://en.wikipedia.org/wiki/Society" TargetMode="External"/><Relationship Id="rId3" Type="http://schemas.openxmlformats.org/officeDocument/2006/relationships/hyperlink" Target="http://en.wikipedia.org/wiki/Scriptures" TargetMode="External"/><Relationship Id="rId4" Type="http://schemas.openxmlformats.org/officeDocument/2006/relationships/hyperlink" Target="http://en.wikipedia.org/wiki/Book_of_Odes" TargetMode="External"/><Relationship Id="rId5" Type="http://schemas.openxmlformats.org/officeDocument/2006/relationships/hyperlink" Target="http://en.wikipedia.org/wiki/Moses" TargetMode="External"/><Relationship Id="rId6" Type="http://schemas.openxmlformats.org/officeDocument/2006/relationships/hyperlink" Target="http://en.wikipedia.org/wiki/Torah" TargetMode="External"/><Relationship Id="rId7" Type="http://schemas.openxmlformats.org/officeDocument/2006/relationships/hyperlink" Target="http://php.ug.cs.usyd.edu.au/%7Ejnot4610/bibref.php?book=%20Leviticus&amp;verse=19:18&amp;src=%21" TargetMode="External"/><Relationship Id="rId8" Type="http://schemas.openxmlformats.org/officeDocument/2006/relationships/hyperlink" Target="http://en.wikipedia.org/wiki/Hillel_the_Elder" TargetMode="External"/><Relationship Id="rId9" Type="http://schemas.openxmlformats.org/officeDocument/2006/relationships/hyperlink" Target="http://en.wikipedia.org/wiki/Jesus" TargetMode="External"/><Relationship Id="rId10" Type="http://schemas.openxmlformats.org/officeDocument/2006/relationships/hyperlink" Target="http://en.wikipedia.org/wiki/Gospels" TargetMode="External"/><Relationship Id="rId11" Type="http://schemas.openxmlformats.org/officeDocument/2006/relationships/slide" Target="../slides/slide8.xml"/><Relationship Id="rId1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</a:rPr>
              <a:t>Comments or questions about this presentation?  - Contact Paul Mitig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</a:rPr>
              <a:t>The point of this slide is to introduce the top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</a:rPr>
              <a:t>Alternate title: Simulating Reality in Bi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Times New Roman"/>
              </a:rPr>
              <a:t>Alternate title: Simulating Biology with F=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2c8"/>
                </a:solidFill>
                <a:latin typeface="Times New Roman"/>
              </a:rPr>
              <a:t>Alternate title: Challenges of Bio-Geometry in Mo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of this slide is to detail the two two high-level objectives of this cour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ing of BIOLOGICAL STRUCTURES, e.g., modeling forces, joints, constraints, mass/inertia properties, time-scal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 of physics (which is generic to BioSimulation, physics, ME, Aero/Astro,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of this slide is to clarify the required pre-requisi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pre-requisit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4c8"/>
                </a:solidFill>
                <a:latin typeface="Times New Roman"/>
              </a:rPr>
              <a:t>Operating systems: Windows 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4c8"/>
                </a:solidFill>
                <a:latin typeface="Times New Roman"/>
              </a:rPr>
              <a:t>       </a:t>
            </a:r>
            <a:r>
              <a:rPr b="1" lang="en-US" sz="700" spc="-1" strike="noStrike">
                <a:solidFill>
                  <a:srgbClr val="0064c8"/>
                </a:solidFill>
                <a:latin typeface="Times New Roman"/>
              </a:rPr>
              <a:t>(or proficient MAC/Linux programmer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4c8"/>
                </a:solidFill>
                <a:latin typeface="Times New Roman"/>
              </a:rPr>
              <a:t>Lastly, this slide should includ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64c8"/>
                </a:solidFill>
                <a:latin typeface="Times New Roman"/>
              </a:rPr>
              <a:t>Target Student:  Develop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useful skills are the ability to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4c8"/>
                </a:solidFill>
                <a:latin typeface="Times New Roman"/>
              </a:rPr>
              <a:t>Input and pre-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4c8"/>
                </a:solidFill>
                <a:latin typeface="Times New Roman"/>
              </a:rPr>
              <a:t>Output and post-processing</a:t>
            </a:r>
            <a:r>
              <a:rPr b="1" lang="en-US" sz="700" spc="-1" strike="noStrike">
                <a:solidFill>
                  <a:srgbClr val="0064c8"/>
                </a:solidFill>
                <a:latin typeface="Times New Roman"/>
              </a:rPr>
              <a:t> (plots, animation, force-feedback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of this slide is that F=ma (and Simbody) is a central element in Physics-based simulation at Simbi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erview of the entire process for simulation is abbreviated as MIPS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PSI: Modeling, Identifiers, Physics, Simplify &amp; Solve, Interpret &amp;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ing: Geometry, topology (joints and constraints which define connectivity of objec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ers: Mass, center of mass, and inertia properties relevant to geo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guration and motion variables used to describe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s: F = m a  (Simbod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and Solve: Integration, linear equation solver (e.g. for least squares), and root fi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 and design:  Plots, visualization, haptics, optimization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of this lab is to understand the input parameters for numerical integratio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y effect numerical integration accuracy and effic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Numerical integration verification – either by testing conver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By reducing step size or error tolerances – or by comparing to 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Constants, e.g., conservation of energy or momentum or constraint violation 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Euler parameter constraint violation or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olv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rder ODE, it usually has the form y’ = f(y,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t is DAE, then also have g(y,t)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cture that appears here is the “poster-child” for chaotic sim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integration does not accurately predict these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Mechanical Demonstration of Mathematical Stability and Instability", by Thomas R. K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ed in Vol. 2, No. 4, 1974, pp. 45-47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ternational Journal of Engineering 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also called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Journal of Mechanical Engineering 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of this lab is to provide an overview for the la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of this slide is to use age-old wisdom to streamline the learning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-goal of teaching is not teaching, but lear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 on Confuci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from trying to build a systematic theory of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ocie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ucius wanted his disciples to think deeply for themselves and relentlessly study the outside worl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through the old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scriptu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by relating past political events (like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n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past feelings of common people (like the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Book of Od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By three methods we may learn wisdom: First, by reflection, which is noblest; Second, by imitation, which is easiest; and third by experience, which is the bitterest.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Golden Rule” by Confucius and oth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What you do not wish upon yourself, extend not to others." - Confucius (ca. 551–479 B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Love your neighbor as yourself" -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ca. 1525-1405 BCE) in the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Tora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Leviticus 19:1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What is hateful to you, do not to your fellow man." -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Hill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ca. 50 BCE-10 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Do unto others as you would have them do unto you." -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Jes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ca. 5 BCE—33 CE) in the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Gospe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Luke 6:31;Luke 10:27 (affirming of Moses);Matthew 7:12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Hurt no one so that no one may hurt you" — Muhammad (c. 571 – 632 CE) in The Farewell Serm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of this slide is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s the potential for being an outstanding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 making software (and its underlying science) ACCESSIBLE is a critical challenge in making SOFTW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There are lots of strengths in the development team, the instructors, and Simbios facult/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78c8"/>
                </a:solidFill>
                <a:latin typeface="Arial"/>
              </a:rPr>
              <a:t>Opport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ly cross-disciplina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iology, physics, and computer-scie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78c8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78c8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878c8"/>
                </a:solidFill>
                <a:latin typeface="Arial"/>
              </a:rPr>
              <a:t>New Course (no textbook) in a relatively new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Cross-discipline.  Requires some biology and physics and solid computer sci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878c8"/>
                </a:solidFill>
                <a:latin typeface="Arial"/>
              </a:rPr>
              <a:t>New Collaborative Instructor Team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2878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78c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878c8"/>
                </a:solidFill>
                <a:latin typeface="Arial"/>
              </a:rPr>
              <a:t>New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rengths:  In-house professional developers and instructor/TA te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picture results from the SimTK ISIM simulation of ions in the vicinity of a macro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TK ISIM allows scientist to use software that would otherwise be tedious to run and interpret results fr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icture, the green color shows atom densities of calcium ions a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, white, and blue show electrostatic potential on the surface of Transfer R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1663-FDD7-4FA1-92BA-283068B8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06AE-CB5C-4157-8D65-60138A8B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1A2B-EE16-477F-87C7-478E79B8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3F2-C525-4B94-A56F-9524E267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9B2B-1431-4B45-AD5C-BB0ED25D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1463-D559-4EAB-ABA5-5DD3C7AA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2DAE-5E39-47AF-B2A0-74828CAA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B2D-70E4-4F84-AB21-3E38A387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7431-0775-4424-ACCA-5BAE3119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866F-A6E8-4548-B8DC-C0AF93A0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E59E-0E18-4B83-8686-9909E93B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94F8-3D3D-4CA7-81DD-41D3325F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3183-F826-45BD-A0BC-CCC2B5CFCE9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7754760" y="0"/>
          <a:ext cx="1389240" cy="91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54760" y="0"/>
                    <a:ext cx="138924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5049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2c8"/>
                </a:solidFill>
                <a:latin typeface="Arial Narrow"/>
              </a:rPr>
              <a:t>Training for Physics-Based </a:t>
            </a:r>
            <a:br>
              <a:rPr sz="4800"/>
            </a:br>
            <a:r>
              <a:rPr b="1" lang="en-US" sz="4800" spc="-1" strike="noStrike">
                <a:solidFill>
                  <a:srgbClr val="0032c8"/>
                </a:solidFill>
                <a:latin typeface="Arial Narrow"/>
              </a:rPr>
              <a:t>Bio-simulation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"/>
          <p:cNvSpPr/>
          <p:nvPr/>
        </p:nvSpPr>
        <p:spPr>
          <a:xfrm>
            <a:off x="522720" y="1447920"/>
            <a:ext cx="818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b00"/>
                </a:solidFill>
                <a:latin typeface="Arial Narrow"/>
              </a:rPr>
              <a:t>Sim</a:t>
            </a:r>
            <a:r>
              <a:rPr b="1" lang="en-US" sz="3200" spc="-1" strike="noStrike">
                <a:solidFill>
                  <a:srgbClr val="c80000"/>
                </a:solidFill>
                <a:latin typeface="Arial Narrow"/>
              </a:rPr>
              <a:t>Bios</a:t>
            </a:r>
            <a:r>
              <a:rPr b="1" lang="en-US" sz="3200" spc="-1" strike="noStrike">
                <a:solidFill>
                  <a:srgbClr val="0032c8"/>
                </a:solidFill>
                <a:latin typeface="Arial Narrow"/>
              </a:rPr>
              <a:t>: NIH Center for Biomedical Computation</a:t>
            </a:r>
            <a:br>
              <a:rPr sz="3200"/>
            </a:br>
            <a:r>
              <a:rPr b="1" lang="en-US" sz="3200" spc="-1" strike="noStrike">
                <a:solidFill>
                  <a:srgbClr val="0032c8"/>
                </a:solidFill>
                <a:latin typeface="Arial Narrow"/>
              </a:rPr>
              <a:t>Physics-based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9b00"/>
                </a:solidFill>
                <a:latin typeface="Arial Narrow"/>
              </a:rPr>
              <a:t>Sim</a:t>
            </a:r>
            <a:r>
              <a:rPr b="1" lang="en-US" sz="3200" spc="-1" strike="noStrike">
                <a:solidFill>
                  <a:srgbClr val="0032c8"/>
                </a:solidFill>
                <a:latin typeface="Arial Narrow"/>
              </a:rPr>
              <a:t>ulation of </a:t>
            </a:r>
            <a:r>
              <a:rPr b="1" lang="en-US" sz="3200" spc="-1" strike="noStrike">
                <a:solidFill>
                  <a:srgbClr val="c80000"/>
                </a:solidFill>
                <a:latin typeface="Arial Narrow"/>
              </a:rPr>
              <a:t>Bio</a:t>
            </a:r>
            <a:r>
              <a:rPr b="1" lang="en-US" sz="3200" spc="-1" strike="noStrike">
                <a:solidFill>
                  <a:srgbClr val="0032c8"/>
                </a:solidFill>
                <a:latin typeface="Arial Narrow"/>
              </a:rPr>
              <a:t>logical </a:t>
            </a:r>
            <a:r>
              <a:rPr b="1" lang="en-US" sz="3200" spc="-1" strike="noStrike">
                <a:solidFill>
                  <a:srgbClr val="c80000"/>
                </a:solidFill>
                <a:latin typeface="Arial Narrow"/>
              </a:rPr>
              <a:t>S</a:t>
            </a:r>
            <a:r>
              <a:rPr b="1" lang="en-US" sz="3200" spc="-1" strike="noStrike">
                <a:solidFill>
                  <a:srgbClr val="0032c8"/>
                </a:solidFill>
                <a:latin typeface="Arial Narrow"/>
              </a:rPr>
              <a:t>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5943600"/>
            <a:ext cx="4419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1440" y="6019920"/>
            <a:ext cx="5121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8"/>
                </a:solidFill>
                <a:latin typeface="Arial Narrow"/>
              </a:rPr>
              <a:t>Funding: NIH Roadmap Grant U54 GM0729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8"/>
                </a:solidFill>
                <a:latin typeface="Arial Narrow"/>
              </a:rPr>
              <a:t>This PowerPoint presentation and the BioE215 course syllabus are available at https://simtk.org/home/training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c8"/>
                </a:solidFill>
                <a:latin typeface="Arial Narrow"/>
              </a:rPr>
              <a:t>Last updated November 19, 20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Conclusi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2133720"/>
            <a:ext cx="3124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Jeanette Schmi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ichael She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uss Alt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cott D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avid Pa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lanca Pin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ark Friedric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Jung-Chi Li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lain Laeder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Jeff Reinb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harley Tay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 Narrow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2209680"/>
            <a:ext cx="2971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Jonathan Du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ill K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ryan K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hris B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Jack Middle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lay And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yman Hab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hand 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llison Arn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ran Guendel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3399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048120" y="2209680"/>
          <a:ext cx="29318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09680"/>
                    <a:ext cx="29318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352680" y="6338880"/>
            <a:ext cx="228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c8"/>
                </a:solidFill>
                <a:latin typeface="Arial"/>
              </a:rPr>
              <a:t>Copyright 2006 BioX at Stanf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BioE215: Course Objective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2133720"/>
            <a:ext cx="89154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buClr>
                <a:srgbClr val="0064c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Model, analyze, and interpret the mechanics of biologica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c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Identify important parameters for physics-based modeling of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c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Understand the role of computational tools in simulating biological structur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including generating and solving the physical equations with SimTK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940280"/>
            <a:ext cx="86104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buClr>
                <a:srgbClr val="0064c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Gain physical insights into basic principles with computer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c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Use techniques, skills, and tools necessary for bio-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c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64c8"/>
                </a:solidFill>
                <a:latin typeface="Arial Narrow"/>
              </a:rPr>
              <a:t>Design/conduct computer experiments and analyze/interpre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71720" y="1508040"/>
            <a:ext cx="72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c00"/>
                </a:solidFill>
                <a:latin typeface="Arial"/>
              </a:rPr>
              <a:t>Modeling Biological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66560" y="4254480"/>
            <a:ext cx="277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c00"/>
                </a:solidFill>
                <a:latin typeface="Arial"/>
              </a:rPr>
              <a:t>Sim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BioE215: Prerequisit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67820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64c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c8"/>
                </a:solidFill>
                <a:latin typeface="Arial Narrow"/>
              </a:rPr>
              <a:t>Basic knowledge of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spcBef>
                <a:spcPts val="601"/>
              </a:spcBef>
              <a:buClr>
                <a:srgbClr val="0064c8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Biology (e.g. BIOSCI 41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spcBef>
                <a:spcPts val="601"/>
              </a:spcBef>
              <a:buClr>
                <a:srgbClr val="0064c8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Mechanics (e.g., E15 or Physics 41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spcBef>
                <a:spcPts val="601"/>
              </a:spcBef>
              <a:buClr>
                <a:srgbClr val="0064c8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ODEs (e.g., Math 53 or E155A or CME 102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spcBef>
                <a:spcPts val="700"/>
              </a:spcBef>
              <a:buClr>
                <a:srgbClr val="0064c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c8"/>
                </a:solidFill>
                <a:latin typeface="Arial Narrow"/>
              </a:rPr>
              <a:t>Significant C or C</a:t>
            </a:r>
            <a:r>
              <a:rPr b="1" lang="en-US" sz="2000" spc="-1" strike="noStrike" baseline="30000">
                <a:solidFill>
                  <a:srgbClr val="0064c8"/>
                </a:solidFill>
                <a:latin typeface="Arial Narrow"/>
              </a:rPr>
              <a:t>++</a:t>
            </a:r>
            <a:r>
              <a:rPr b="1" lang="en-US" sz="2800" spc="-1" strike="noStrike">
                <a:solidFill>
                  <a:srgbClr val="0064c8"/>
                </a:solidFill>
                <a:latin typeface="Arial Narrow"/>
              </a:rPr>
              <a:t> programm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64c8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(e.g., CS106B or CS106X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705720" y="1981080"/>
            <a:ext cx="1600200" cy="1409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828800" y="4800600"/>
            <a:ext cx="2209680" cy="155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5410080" y="4648320"/>
          <a:ext cx="1517760" cy="157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648320"/>
                    <a:ext cx="151776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Modeling &amp; Simulating with F=ma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"/>
          <p:cNvSpPr/>
          <p:nvPr/>
        </p:nvSpPr>
        <p:spPr>
          <a:xfrm>
            <a:off x="3613320" y="2971800"/>
            <a:ext cx="1249200" cy="5814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 = 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03680" y="4114800"/>
            <a:ext cx="2056680" cy="5814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c00"/>
                </a:solidFill>
                <a:latin typeface="Arial Narrow"/>
              </a:rPr>
              <a:t>Linear eq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05360" y="2133720"/>
            <a:ext cx="1666800" cy="5814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95960" y="4114800"/>
            <a:ext cx="1778040" cy="5814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c00"/>
                </a:solidFill>
                <a:latin typeface="Arial Narrow"/>
              </a:rPr>
              <a:t>Coll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14080" y="6249960"/>
            <a:ext cx="2279160" cy="5814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ost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32781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243828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2058840"/>
            <a:ext cx="228600" cy="455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800600"/>
            <a:ext cx="30456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800" y="2058840"/>
            <a:ext cx="1739880" cy="5814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eo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09520" y="1373040"/>
            <a:ext cx="1165320" cy="5814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J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1120" y="1373040"/>
            <a:ext cx="2036880" cy="5814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9160" y="2973240"/>
            <a:ext cx="1276560" cy="5814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495320" y="2057400"/>
            <a:ext cx="2286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105520" y="2743200"/>
            <a:ext cx="457200" cy="230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13360" y="4114800"/>
            <a:ext cx="1907280" cy="5814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c00"/>
                </a:solidFill>
                <a:latin typeface="Arial Narrow"/>
              </a:rPr>
              <a:t>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123720" y="3657600"/>
            <a:ext cx="38124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36576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3657600"/>
            <a:ext cx="3049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876920" y="4800600"/>
            <a:ext cx="30456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8040" y="5257800"/>
            <a:ext cx="3151080" cy="5814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c8"/>
                </a:solidFill>
                <a:latin typeface="Arial Narrow"/>
              </a:rPr>
              <a:t>Motion and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79160" y="3048120"/>
            <a:ext cx="2187720" cy="5814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itial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181480" y="33526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399360" y="1066680"/>
            <a:ext cx="2668320" cy="2976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BioE215 Lab 2:  SimTK.org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1447920"/>
            <a:ext cx="8534160" cy="42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Download Simbody library and cod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simulate Newton’s apple from SimTK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Simulate Newton’s ap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64c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Plot numerical results </a:t>
            </a:r>
            <a:r>
              <a:rPr b="1" lang="en-US" sz="2400" spc="-1" strike="noStrike">
                <a:solidFill>
                  <a:srgbClr val="0064ff"/>
                </a:solidFill>
                <a:latin typeface="Arial Narrow"/>
              </a:rPr>
              <a:t>(Excel, Matlab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64c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Visualize results with Simbody/VTK</a:t>
            </a: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Modify Newton’s apple for projectile 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64c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Simulate with Simbody and plot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64c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Visualize results with Simbody/VTK</a:t>
            </a: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32c8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073240" y="5638680"/>
          <a:ext cx="44798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3240" y="5638680"/>
                    <a:ext cx="44798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0" y="809640"/>
            <a:ext cx="2238480" cy="3610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BioE215 Lab 3:  Numerical Integration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752480"/>
            <a:ext cx="807732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ODE and DAE numerical integ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Choosing a numerical integ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64c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Choosing a step-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64c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Error control (variable vs. fix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64c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Error parameters (relative/absolute err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64c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64c8"/>
                </a:solidFill>
                <a:latin typeface="Arial Narrow"/>
              </a:rPr>
              <a:t>Numerical integration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Impact on integrator of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stiff springs/bonds with rigid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Numerical integration in Sim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553080" y="4910040"/>
            <a:ext cx="259560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BioE215: List of Lab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676520"/>
            <a:ext cx="8915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Lab 1:  Getting Started with Sim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Lab 2:  Newton’s apple with Sim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Lab 3:  Numerical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Lab 4:  Modeling bio-geometry in Sim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Lab 5:  Modeling bio-forces with Sim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Lab 6:  Modeling bio-joints (mobilizers and Simbo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Lab 7:  Modeling constraints in Sim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Lab 8:  Simbody studies:  Kinema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4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64ff"/>
                </a:solidFill>
                <a:latin typeface="Arial Narrow"/>
              </a:rPr>
              <a:t>Lab 9:  Simbody studies:  Dyna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Teaching Philosophy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1447920"/>
            <a:ext cx="4724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ff"/>
                </a:solidFill>
                <a:latin typeface="Arial Narrow"/>
              </a:rPr>
              <a:t>  “</a:t>
            </a:r>
            <a:r>
              <a:rPr b="1" lang="en-US" sz="4000" spc="-1" strike="noStrike">
                <a:solidFill>
                  <a:srgbClr val="0064ff"/>
                </a:solidFill>
                <a:latin typeface="Arial Narrow"/>
              </a:rPr>
              <a:t>I hear and I forg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ff"/>
                </a:solidFill>
                <a:latin typeface="Arial Narrow"/>
              </a:rPr>
              <a:t>I see and I reme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ff"/>
                </a:solidFill>
                <a:latin typeface="Arial Narrow"/>
              </a:rPr>
              <a:t>I </a:t>
            </a:r>
            <a:r>
              <a:rPr b="1" i="1" lang="en-US" sz="4000" spc="-1" strike="noStrike" u="sng">
                <a:solidFill>
                  <a:srgbClr val="0064ff"/>
                </a:solidFill>
                <a:uFillTx/>
                <a:latin typeface="Arial Narrow"/>
              </a:rPr>
              <a:t>do</a:t>
            </a:r>
            <a:r>
              <a:rPr b="1" lang="en-US" sz="4000" spc="-1" strike="noStrike">
                <a:solidFill>
                  <a:srgbClr val="0064ff"/>
                </a:solidFill>
                <a:latin typeface="Arial Narrow"/>
              </a:rPr>
              <a:t> and I understand.”</a:t>
            </a:r>
            <a:r>
              <a:rPr b="0" lang="en-US" sz="4000" spc="-1" strike="noStrike">
                <a:solidFill>
                  <a:srgbClr val="0032c8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400800" y="1797120"/>
          <a:ext cx="1895400" cy="37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797120"/>
                    <a:ext cx="1895400" cy="37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6477120" y="55627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c8"/>
                </a:solidFill>
                <a:latin typeface="Arial Narrow"/>
              </a:rPr>
              <a:t>Confucius 500  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411480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c00"/>
                </a:solidFill>
                <a:latin typeface="Arial Narrow"/>
              </a:rPr>
              <a:t>This is a </a:t>
            </a:r>
            <a:r>
              <a:rPr b="1" lang="en-US" sz="4000" spc="-1" strike="noStrike" u="sng">
                <a:solidFill>
                  <a:srgbClr val="008c00"/>
                </a:solidFill>
                <a:uFillTx/>
                <a:latin typeface="Arial Narrow"/>
              </a:rPr>
              <a:t>DO</a:t>
            </a:r>
            <a:r>
              <a:rPr b="1" lang="en-US" sz="4000" spc="-1" strike="noStrike">
                <a:solidFill>
                  <a:srgbClr val="008c00"/>
                </a:solidFill>
                <a:latin typeface="Arial Narrow"/>
              </a:rPr>
              <a:t> course.</a:t>
            </a:r>
            <a:r>
              <a:rPr b="0" lang="en-US" sz="4000" spc="-1" strike="noStrike">
                <a:solidFill>
                  <a:srgbClr val="008c00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29400" y="1371600"/>
            <a:ext cx="2249640" cy="1689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Course Opportunities &amp; Challenges 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1676520"/>
            <a:ext cx="74678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78c8"/>
                </a:solidFill>
                <a:latin typeface="Arial"/>
              </a:rPr>
              <a:t>Opport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ly cross-discipl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 for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e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78c8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Course, New field, New team, New softwar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78c8"/>
                </a:solidFill>
                <a:latin typeface="Arial"/>
              </a:rPr>
              <a:t>Streng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ing and simulation expert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bios faculty and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/TA and developmen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156440" y="5346720"/>
            <a:ext cx="145404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19:29:46Z</dcterms:created>
  <dc:creator>Paul Mitiguy</dc:creator>
  <dc:description/>
  <dc:language>en-US</dc:language>
  <cp:lastModifiedBy>Paul</cp:lastModifiedBy>
  <dcterms:modified xsi:type="dcterms:W3CDTF">2006-11-20T05:18:33Z</dcterms:modified>
  <cp:revision>637</cp:revision>
  <dc:subject/>
  <dc:title>Training for Bio-Simulation</dc:title>
</cp:coreProperties>
</file>