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589A-E96D-41BD-A18E-CABE42B36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0859-4CAE-4AC5-8E33-B71A200BB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87A-3A2C-4171-A956-824B915B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53D-E997-4026-B361-1632464E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B3C-F0B5-4AA5-857D-F5D0408C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361-B39C-4D3C-BA9B-C068F701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E6A-E4C9-4D84-9CD3-EF74F5E5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4AC-C108-4EAD-BFEC-31807E7B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845-A457-4578-AC29-7F5CF4A4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37E-249D-499D-BB3B-964A5E51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A5B-451F-4B67-A552-C1C091AB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A9E-1291-4499-9B59-349DCCDB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B17-B599-4D7A-A3D0-407F07FC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1BD-316E-4EDA-9D7D-7E0D480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6880-90C2-4F02-A9D6-5AC1D85D2A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rtleby.com.laneproxy.stanford.edu/107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f Toe Injuries and Artificial Surfaces: The Future of Your Fantasy Football Lea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838080" y="5638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Desautels, David Mosko, Jacob Ri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We Going To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80880" y="1523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urf Toe and Why Do We C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urf Toe Caused and How is It Currently Tr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deas Regarding Treatment and Prevention of Turf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urf Toe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447920" y="144792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ficial Surfaces are Becoming Mo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sport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iate sport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chool sport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parks being conve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Costs to NFL, NC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for long-term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uddenly lose your fantasy football le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of the Fo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64004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y, Henry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of the Human Bod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iladelphia: Lea &amp; Febiger, 1918; Bartleby.com, 2000.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bartleby.com/107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Figure 268--Gray's Anatomy.gif"/>
          <p:cNvPicPr/>
          <p:nvPr/>
        </p:nvPicPr>
        <p:blipFill>
          <a:blip r:embed="rId2"/>
          <a:stretch/>
        </p:blipFill>
        <p:spPr>
          <a:xfrm>
            <a:off x="914400" y="838080"/>
            <a:ext cx="2900520" cy="543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igure 268--Gray's Anatomy.gif"/>
          <p:cNvPicPr/>
          <p:nvPr/>
        </p:nvPicPr>
        <p:blipFill>
          <a:blip r:embed="rId3"/>
          <a:srcRect l="0" t="43289" r="0" b="0"/>
          <a:stretch/>
        </p:blipFill>
        <p:spPr>
          <a:xfrm>
            <a:off x="3809880" y="914400"/>
            <a:ext cx="5043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Range of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62485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e and Drez’s Orthopaedic Sports Medicine: Principles and Practice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Elsevier 2009.  Figure 25H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9338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447920" y="19051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y to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eat)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y to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atarsophalangeal (MTP)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hyper-dorsiflexion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T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in/strain of ligamentous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 or full tear in more seriou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28600" y="62485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kenbury, R.T. “Forefoot Problems in Athletes.”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. &amp; Sci. in Sp. &amp; Ex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. 31 Issue 7 Supplement.  S448-S458. 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Symp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57200" y="990720"/>
            <a:ext cx="822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t MTP joint sw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ising adjacent to the area of capsula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ar tenderness at the MT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 with passive MTP joint dorsi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 with joint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dorsiflexion of the MT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ic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 tissue sw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periarticular bony a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articular loose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location of bipartite sesam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amoid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of sesam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28600" y="62485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e and Drez’s Orthopaedic Sports Medicine: Principles and Practice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Elsevier 2009.  Box 25H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57200" y="22096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w to back of leg/heel while foot is fle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jury basically never existed until the creation of artificial playing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1:40:48Z</dcterms:created>
  <dc:creator>Dan Desautels</dc:creator>
  <dc:description/>
  <dc:language>en-US</dc:language>
  <cp:lastModifiedBy>Dan Desautels</cp:lastModifiedBy>
  <dcterms:modified xsi:type="dcterms:W3CDTF">2010-03-06T20:03:38Z</dcterms:modified>
  <cp:revision>27</cp:revision>
  <dc:subject/>
  <dc:title>Turf Toe—We Need a Good Title</dc:title>
</cp:coreProperties>
</file>