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73F-712C-44AC-A0DA-AC3F374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460-41B7-4875-BD71-EDCC63F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596-EC9D-431C-B7F1-CD6775E4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C93-6CB1-4DF6-AE31-FB821D96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B3E-3ACE-4011-9224-7A0F3441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A66-2AD9-40DE-ACE3-C9A162D8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1E9-9EE9-45A5-AAD6-13D3E7D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4EE-D41A-45FF-BF6D-3BEC594D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029-7E63-4AB1-9379-1173DCC3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1AC-31E7-46B3-A287-2561A4B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F4A-FFE0-44C9-8805-3CE2006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8AF-2EAB-4E51-A85B-378C9CE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BB5-624E-418A-8B70-A2B981CCF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nding_1"/>
          <p:cNvPicPr/>
          <p:nvPr/>
        </p:nvPicPr>
        <p:blipFill>
          <a:blip r:embed="rId1"/>
          <a:stretch/>
        </p:blipFill>
        <p:spPr>
          <a:xfrm>
            <a:off x="1400040" y="1639800"/>
            <a:ext cx="6343920" cy="357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hysics-Based Simulation: Graphics and Rob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4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5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13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997920" y="472428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4267080" y="2133720"/>
            <a:ext cx="435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robot is given an acceleration of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ll act like a si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id body with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rest of the robot stay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orce needed to induce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27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028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029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030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031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032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033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034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035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1036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1037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1038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1039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4403880" y="1981080"/>
            <a:ext cx="46638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aren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t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 in symmetric valu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um of inerti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all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 in joint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042"/>
          <p:cNvSpPr/>
          <p:nvPr/>
        </p:nvSpPr>
        <p:spPr>
          <a:xfrm>
            <a:off x="1676520" y="25909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043"/>
          <p:cNvSpPr/>
          <p:nvPr/>
        </p:nvSpPr>
        <p:spPr>
          <a:xfrm>
            <a:off x="152280" y="2867040"/>
            <a:ext cx="1616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arent of 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044"/>
          <p:cNvSpPr/>
          <p:nvPr/>
        </p:nvSpPr>
        <p:spPr>
          <a:xfrm>
            <a:off x="5946840" y="4724280"/>
            <a:ext cx="2434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w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45"/>
          <p:cNvSpPr/>
          <p:nvPr/>
        </p:nvSpPr>
        <p:spPr>
          <a:xfrm>
            <a:off x="5641920" y="4800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046"/>
          <p:cNvSpPr/>
          <p:nvPr/>
        </p:nvSpPr>
        <p:spPr>
          <a:xfrm>
            <a:off x="4813200" y="5105520"/>
            <a:ext cx="89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47"/>
          <p:cNvSpPr/>
          <p:nvPr/>
        </p:nvSpPr>
        <p:spPr>
          <a:xfrm>
            <a:off x="385920" y="6019920"/>
            <a:ext cx="29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 for sm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1050"/>
          <p:cNvSpPr/>
          <p:nvPr/>
        </p:nvSpPr>
        <p:spPr>
          <a:xfrm>
            <a:off x="1917720" y="2971800"/>
            <a:ext cx="609480" cy="15238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384" h="960">
                <a:moveTo>
                  <a:pt x="88" y="960"/>
                </a:moveTo>
                <a:cubicBezTo>
                  <a:pt x="44" y="832"/>
                  <a:pt x="0" y="704"/>
                  <a:pt x="40" y="576"/>
                </a:cubicBezTo>
                <a:cubicBezTo>
                  <a:pt x="80" y="448"/>
                  <a:pt x="272" y="288"/>
                  <a:pt x="328" y="192"/>
                </a:cubicBezTo>
                <a:cubicBezTo>
                  <a:pt x="384" y="96"/>
                  <a:pt x="380" y="48"/>
                  <a:pt x="376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051"/>
          <p:cNvSpPr/>
          <p:nvPr/>
        </p:nvSpPr>
        <p:spPr>
          <a:xfrm>
            <a:off x="1995840" y="28195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 rot="21109200">
            <a:off x="990720" y="502920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22"/>
          <p:cNvSpPr/>
          <p:nvPr/>
        </p:nvSpPr>
        <p:spPr>
          <a:xfrm>
            <a:off x="1905120" y="5257800"/>
            <a:ext cx="30456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915840" y="2209680"/>
            <a:ext cx="21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3733920" y="22096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962320" y="2217600"/>
            <a:ext cx="22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 baseline="30000">
                <a:solidFill>
                  <a:srgbClr val="ff99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-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817920" y="33177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ible if body un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1905120" y="2819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4092840" y="480060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ey observ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of a body is al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 affine function of applied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12408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 rot="1957200">
            <a:off x="281916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 rot="20176200">
            <a:off x="342900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2986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31240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26668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2590920" y="3962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657600" y="3940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358128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6668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14"/>
          <p:cNvSpPr/>
          <p:nvPr/>
        </p:nvSpPr>
        <p:spPr>
          <a:xfrm rot="1957200">
            <a:off x="2361960" y="46479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276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6"/>
          <p:cNvSpPr/>
          <p:nvPr/>
        </p:nvSpPr>
        <p:spPr>
          <a:xfrm rot="19596000">
            <a:off x="289512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235480" y="2057400"/>
            <a:ext cx="329904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in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equations, 3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99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out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380880" y="6019920"/>
            <a:ext cx="43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er than CRBA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9"/>
          <p:cNvSpPr/>
          <p:nvPr/>
        </p:nvSpPr>
        <p:spPr>
          <a:xfrm>
            <a:off x="2019240" y="2819520"/>
            <a:ext cx="800280" cy="190476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0"/>
          <p:cNvSpPr/>
          <p:nvPr/>
        </p:nvSpPr>
        <p:spPr>
          <a:xfrm>
            <a:off x="1066680" y="2514600"/>
            <a:ext cx="800280" cy="190512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614240" y="3352680"/>
            <a:ext cx="50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149120" y="24382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daptive Dynamics Simplifi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herstone’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ivide-and-conquer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forward dynamics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parallel proces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d loops not supported y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picks number of DOFs des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ach time ste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gorithm picks active j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ward dynamics steps forward in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1360" y="65070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amma.cs.unc.edu/AD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5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4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7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8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9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5105520" y="3581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loop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38"/>
          <p:cNvSpPr/>
          <p:nvPr/>
        </p:nvSpPr>
        <p:spPr>
          <a:xfrm>
            <a:off x="6705720" y="4952880"/>
            <a:ext cx="137160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37"/>
          <p:cNvSpPr/>
          <p:nvPr/>
        </p:nvSpPr>
        <p:spPr>
          <a:xfrm>
            <a:off x="3733920" y="4952880"/>
            <a:ext cx="1295280" cy="457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36"/>
          <p:cNvSpPr/>
          <p:nvPr/>
        </p:nvSpPr>
        <p:spPr>
          <a:xfrm>
            <a:off x="7162920" y="55627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3733920" y="5486400"/>
            <a:ext cx="129528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Oval 4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13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5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6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3880800" y="213372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spanning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dynamics for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mic loop with 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811320" y="495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3811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4488480" y="49528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455796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387760" y="49528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334840" y="54864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6636600" y="4952880"/>
            <a:ext cx="13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225920" y="548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3657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50292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30"/>
          <p:cNvSpPr/>
          <p:nvPr/>
        </p:nvSpPr>
        <p:spPr>
          <a:xfrm>
            <a:off x="518148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31"/>
          <p:cNvSpPr/>
          <p:nvPr/>
        </p:nvSpPr>
        <p:spPr>
          <a:xfrm flipH="1">
            <a:off x="5943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17364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3"/>
          <p:cNvSpPr/>
          <p:nvPr/>
        </p:nvSpPr>
        <p:spPr>
          <a:xfrm>
            <a:off x="66294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34"/>
          <p:cNvSpPr/>
          <p:nvPr/>
        </p:nvSpPr>
        <p:spPr>
          <a:xfrm flipH="1">
            <a:off x="8076600" y="5029200"/>
            <a:ext cx="75960" cy="838080"/>
          </a:xfrm>
          <a:custGeom>
            <a:avLst/>
            <a:gdLst>
              <a:gd name="textAreaLeft" fmla="*/ 21960 w 75960"/>
              <a:gd name="textAreaRight" fmla="*/ 7596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646160" y="4419720"/>
            <a:ext cx="2555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4770720" y="6019920"/>
            <a:ext cx="22762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-coordinate methods are 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ier methods (with maximal coordina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 drift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solving a matrix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multiplier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require parame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use of nonholonomic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branch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ars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aff giv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ultiplier method for computing constraint forces for dyna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9" name="Picture 5" descr="http://www.cs.cmu.edu/~baraff/pictures/snowflakes.gif"/>
          <p:cNvPicPr/>
          <p:nvPr/>
        </p:nvPicPr>
        <p:blipFill>
          <a:blip r:embed="rId1"/>
          <a:stretch/>
        </p:blipFill>
        <p:spPr>
          <a:xfrm>
            <a:off x="3733920" y="1981080"/>
            <a:ext cx="4944960" cy="41371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457200" y="23623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system with 127 constra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phere is a 3 DOF constraint between two rigid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381 Lagrange multipl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t-Stabilization with DA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800" y="6507000"/>
            <a:ext cx="35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ubc.ca/nest/scv/demos/Slider/slider.htm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8"/>
          <p:cNvSpPr/>
          <p:nvPr/>
        </p:nvSpPr>
        <p:spPr>
          <a:xfrm rot="5400000">
            <a:off x="3809880" y="1523520"/>
            <a:ext cx="1447920" cy="6019920"/>
          </a:xfrm>
          <a:custGeom>
            <a:avLst/>
            <a:gdLst>
              <a:gd name="textAreaLeft" fmla="*/ 545040 w 1447920"/>
              <a:gd name="textAreaRight" fmla="*/ 977400 w 1447920"/>
              <a:gd name="textAreaTop" fmla="*/ 656640 h 6019920"/>
              <a:gd name="textAreaBottom" fmla="*/ 536328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90" y="2616"/>
                  <a:pt x="14580" y="5080"/>
                  <a:pt x="14580" y="10800"/>
                </a:cubicBezTo>
                <a:cubicBezTo>
                  <a:pt x="14580" y="16520"/>
                  <a:pt x="18090" y="189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16152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manif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6095880" y="411480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11"/>
          <p:cNvSpPr/>
          <p:nvPr/>
        </p:nvSpPr>
        <p:spPr>
          <a:xfrm flipH="1" flipV="1">
            <a:off x="3809880" y="2971440"/>
            <a:ext cx="228600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3505320" y="27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3505320" y="411480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5924160" y="34704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2266200" y="20988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1217520" y="39625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720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motion of a mechanical system generated by a set of forces or control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76920" y="3311640"/>
            <a:ext cx="394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lle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/coll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number of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end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natural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level motion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efficient and accu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762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3048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990720" y="5410080"/>
            <a:ext cx="3124080" cy="83844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 flipH="1" flipV="1">
            <a:off x="762120" y="3200400"/>
            <a:ext cx="3124080" cy="83808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acetime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 to minim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constraints to m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tion force function by constrained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 function by integrating 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motions modeled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energy motions require finer physic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280" y="6477120"/>
            <a:ext cx="19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cmu.edu/~aw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on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hysics-based mocap edit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input motion onto simplified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spacetime optimization problem most closely matching simplified character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 parameters, constrain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new motion onto original to get final 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works well; low-energy not so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mparison to real actor’s motion 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440" y="647712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washington.edu/homes/zoran/sigg99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-Based Motion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s represented as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total torque from muscle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scribes a motion 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yl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motion captu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style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new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new mo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4160" y="6477120"/>
            <a:ext cx="41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rail.cs.washington.edu/projects/charanim/phys-style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romuscular Perturb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rtional-Derivativ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27320" y="580716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hel will talk about her work on PD control and huma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we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99072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9907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9907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1523880" y="2362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52388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1523880" y="3251160"/>
            <a:ext cx="533520" cy="444600"/>
          </a:xfrm>
          <a:custGeom>
            <a:avLst/>
            <a:gdLst>
              <a:gd name="textAreaLeft" fmla="*/ 0 w 533520"/>
              <a:gd name="textAreaRight" fmla="*/ 533880 w 5335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36" h="280">
                <a:moveTo>
                  <a:pt x="0" y="160"/>
                </a:moveTo>
                <a:cubicBezTo>
                  <a:pt x="16" y="80"/>
                  <a:pt x="32" y="0"/>
                  <a:pt x="48" y="16"/>
                </a:cubicBezTo>
                <a:cubicBezTo>
                  <a:pt x="64" y="32"/>
                  <a:pt x="80" y="256"/>
                  <a:pt x="96" y="256"/>
                </a:cubicBezTo>
                <a:cubicBezTo>
                  <a:pt x="112" y="256"/>
                  <a:pt x="128" y="16"/>
                  <a:pt x="144" y="16"/>
                </a:cubicBezTo>
                <a:cubicBezTo>
                  <a:pt x="160" y="16"/>
                  <a:pt x="176" y="256"/>
                  <a:pt x="192" y="256"/>
                </a:cubicBezTo>
                <a:cubicBezTo>
                  <a:pt x="208" y="256"/>
                  <a:pt x="224" y="16"/>
                  <a:pt x="240" y="16"/>
                </a:cubicBezTo>
                <a:cubicBezTo>
                  <a:pt x="256" y="16"/>
                  <a:pt x="272" y="232"/>
                  <a:pt x="288" y="256"/>
                </a:cubicBezTo>
                <a:cubicBezTo>
                  <a:pt x="304" y="280"/>
                  <a:pt x="320" y="220"/>
                  <a:pt x="336" y="1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2057400" y="3505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67652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590920" y="2362320"/>
            <a:ext cx="13716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2973600" y="2743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1382040" y="1676520"/>
            <a:ext cx="52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1535400" y="3733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28195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35053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838080" y="3962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4669200" y="1873080"/>
            <a:ext cx="391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5257080" y="3124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009920" y="3124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6019920" y="2590560"/>
            <a:ext cx="3045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 flipH="1" flipV="1">
            <a:off x="7543440" y="25905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9"/>
          <p:cNvSpPr/>
          <p:nvPr/>
        </p:nvSpPr>
        <p:spPr>
          <a:xfrm>
            <a:off x="4499280" y="495288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 Cruise control, CM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sk-Level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23080" y="580716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ce will talk about task-level control of shoulder models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s from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562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d coordin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osite rigi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ticulate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aptive dynamics simpl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traint force 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sed-loop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grange multiplier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ion onto constraint manif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-stabilization with DA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acetime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tion trans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s-based motion sty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uromuscular perturb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portional-derivativ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ask-level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6" descr="http://www.pixar.com/shorts/ljr/images/tale_left.jpg"/>
          <p:cNvPicPr/>
          <p:nvPr/>
        </p:nvPicPr>
        <p:blipFill>
          <a:blip r:embed="rId1"/>
          <a:srcRect l="0" t="0" r="3168" b="0"/>
          <a:stretch/>
        </p:blipFill>
        <p:spPr>
          <a:xfrm>
            <a:off x="5715000" y="2438280"/>
            <a:ext cx="26668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6324840" cy="224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01132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3516480" y="213372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dynamic simulation is needed 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cha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3"/>
          <p:cNvSpPr/>
          <p:nvPr/>
        </p:nvSpPr>
        <p:spPr>
          <a:xfrm>
            <a:off x="559116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4673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554364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65760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ridging Biomechanics &amp; Graph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3498480" y="2849040"/>
            <a:ext cx="420840" cy="423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5325840" y="2962080"/>
            <a:ext cx="322560" cy="3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5181480" y="4280040"/>
            <a:ext cx="359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st algorithms for making visu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istic movies of complicated sce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0880" y="42670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need for physically realistic sim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 science to back up dynamic mod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9880" y="5334120"/>
            <a:ext cx="361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linically relevant conclu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ningfulness &gt; accuracy &gt;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5184360" y="5334120"/>
            <a:ext cx="364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su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ool SIGGRAPH mov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curacy &gt; efficiency &gt; meaningfu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training Mechanical Syste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wer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nstraint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 constraints after each time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28" descr=""/>
          <p:cNvPicPr/>
          <p:nvPr/>
        </p:nvPicPr>
        <p:blipFill>
          <a:blip r:embed="rId1"/>
          <a:srcRect l="0" t="0" r="3733" b="0"/>
          <a:stretch/>
        </p:blipFill>
        <p:spPr>
          <a:xfrm>
            <a:off x="6400800" y="3733920"/>
            <a:ext cx="22096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bot Controller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 rot="19433400">
            <a:off x="533520" y="4114800"/>
            <a:ext cx="266688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124080" y="32004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 rot="1594200">
            <a:off x="5867280" y="38862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7913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rc 9"/>
          <p:cNvSpPr/>
          <p:nvPr/>
        </p:nvSpPr>
        <p:spPr>
          <a:xfrm flipV="1" rot="1243200">
            <a:off x="2901960" y="3931560"/>
            <a:ext cx="533520" cy="50940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09400"/>
              <a:gd name="textAreaBottom" fmla="*/ 509400 h 509400"/>
            </a:gdLst>
            <a:ahLst/>
            <a:rect l="textAreaLeft" t="textAreaTop" r="textAreaRight" b="textAreaBottom"/>
            <a:pathLst>
              <a:path fill="none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</a:path>
              <a:path stroke="0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rc 10"/>
          <p:cNvSpPr/>
          <p:nvPr/>
        </p:nvSpPr>
        <p:spPr>
          <a:xfrm flipV="1" rot="3503400">
            <a:off x="5527800" y="3885480"/>
            <a:ext cx="566640" cy="509760"/>
          </a:xfrm>
          <a:custGeom>
            <a:avLst/>
            <a:gdLst>
              <a:gd name="textAreaLeft" fmla="*/ 0 w 566640"/>
              <a:gd name="textAreaRight" fmla="*/ 567000 w 566640"/>
              <a:gd name="textAreaTop" fmla="*/ 360 h 509760"/>
              <a:gd name="textAreaBottom" fmla="*/ 510480 h 509760"/>
            </a:gdLst>
            <a:ahLst/>
            <a:rect l="textAreaLeft" t="textAreaTop" r="textAreaRight" b="textAreaBottom"/>
            <a:pathLst>
              <a:path fill="none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</a:path>
              <a:path stroke="0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  <a:lnTo>
                  <a:pt x="1372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06000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42196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869760" y="358128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504960" y="27432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248160" y="34290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371960" y="571500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/generalized/joint-space/link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54800" y="205740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aximal/redundant/operational-space/task-space/absolute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1676520" y="4371840"/>
            <a:ext cx="380880" cy="38124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4267080" y="35053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10280" y="41911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1028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1030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1031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32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033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1034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1035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042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44"/>
          <p:cNvSpPr/>
          <p:nvPr/>
        </p:nvSpPr>
        <p:spPr>
          <a:xfrm flipH="1" flipV="1">
            <a:off x="1447920" y="5029200"/>
            <a:ext cx="3045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45"/>
          <p:cNvSpPr/>
          <p:nvPr/>
        </p:nvSpPr>
        <p:spPr>
          <a:xfrm>
            <a:off x="2675160" y="5562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046"/>
          <p:cNvSpPr/>
          <p:nvPr/>
        </p:nvSpPr>
        <p:spPr>
          <a:xfrm>
            <a:off x="115128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47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48"/>
          <p:cNvSpPr/>
          <p:nvPr/>
        </p:nvSpPr>
        <p:spPr>
          <a:xfrm flipH="1" flipV="1">
            <a:off x="2590560" y="3809880"/>
            <a:ext cx="759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49"/>
          <p:cNvSpPr/>
          <p:nvPr/>
        </p:nvSpPr>
        <p:spPr>
          <a:xfrm>
            <a:off x="3818160" y="4419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50"/>
          <p:cNvSpPr/>
          <p:nvPr/>
        </p:nvSpPr>
        <p:spPr>
          <a:xfrm>
            <a:off x="231336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051"/>
          <p:cNvSpPr/>
          <p:nvPr/>
        </p:nvSpPr>
        <p:spPr>
          <a:xfrm flipV="1">
            <a:off x="4724280" y="27432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52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53"/>
          <p:cNvSpPr/>
          <p:nvPr/>
        </p:nvSpPr>
        <p:spPr>
          <a:xfrm>
            <a:off x="574236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054"/>
          <p:cNvSpPr/>
          <p:nvPr/>
        </p:nvSpPr>
        <p:spPr>
          <a:xfrm>
            <a:off x="50374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055"/>
          <p:cNvSpPr/>
          <p:nvPr/>
        </p:nvSpPr>
        <p:spPr>
          <a:xfrm flipV="1">
            <a:off x="7162920" y="3580920"/>
            <a:ext cx="106668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056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57"/>
          <p:cNvSpPr/>
          <p:nvPr/>
        </p:nvSpPr>
        <p:spPr>
          <a:xfrm>
            <a:off x="73998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58"/>
          <p:cNvSpPr/>
          <p:nvPr/>
        </p:nvSpPr>
        <p:spPr>
          <a:xfrm>
            <a:off x="831420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rc 1059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rc 1060"/>
          <p:cNvSpPr/>
          <p:nvPr/>
        </p:nvSpPr>
        <p:spPr>
          <a:xfrm flipH="1" rot="1099200">
            <a:off x="1695960" y="1972800"/>
            <a:ext cx="6194520" cy="3321360"/>
          </a:xfrm>
          <a:custGeom>
            <a:avLst/>
            <a:gdLst>
              <a:gd name="textAreaLeft" fmla="*/ -360 w 6194520"/>
              <a:gd name="textAreaRight" fmla="*/ 6194520 w 6194520"/>
              <a:gd name="textAreaTop" fmla="*/ 0 h 3321360"/>
              <a:gd name="textAreaBottom" fmla="*/ 3321720 h 3321360"/>
            </a:gdLst>
            <a:ahLst/>
            <a:rect l="textAreaLeft" t="textAreaTop" r="textAreaRight" b="textAreaBottom"/>
            <a:pathLst>
              <a:path fill="none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</a:path>
              <a:path stroke="0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  <a:lnTo>
                  <a:pt x="3848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61"/>
          <p:cNvSpPr/>
          <p:nvPr/>
        </p:nvSpPr>
        <p:spPr>
          <a:xfrm>
            <a:off x="3732480" y="571500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velocitie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62"/>
          <p:cNvSpPr/>
          <p:nvPr/>
        </p:nvSpPr>
        <p:spPr>
          <a:xfrm>
            <a:off x="624600" y="1752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acceleration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63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064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065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066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5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7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9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74800" y="5562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817800" y="4419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742000" y="39625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7399440" y="4952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rc 26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733920" y="57150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forces in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741240" y="2022480"/>
            <a:ext cx="48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lgorithm for inverse dynamic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Oval 1028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029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030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031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032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033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034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035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036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037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1038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1039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040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041"/>
          <p:cNvSpPr/>
          <p:nvPr/>
        </p:nvSpPr>
        <p:spPr>
          <a:xfrm>
            <a:off x="990720" y="3962520"/>
            <a:ext cx="1981080" cy="1371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42"/>
          <p:cNvSpPr/>
          <p:nvPr/>
        </p:nvSpPr>
        <p:spPr>
          <a:xfrm>
            <a:off x="1219680" y="41148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43"/>
          <p:cNvSpPr/>
          <p:nvPr/>
        </p:nvSpPr>
        <p:spPr>
          <a:xfrm>
            <a:off x="682560" y="2057400"/>
            <a:ext cx="60739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in 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44"/>
          <p:cNvSpPr/>
          <p:nvPr/>
        </p:nvSpPr>
        <p:spPr>
          <a:xfrm>
            <a:off x="667800" y="5562720"/>
            <a:ext cx="658908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a (composite) rigid bo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46"/>
          <p:cNvSpPr/>
          <p:nvPr/>
        </p:nvSpPr>
        <p:spPr>
          <a:xfrm>
            <a:off x="997920" y="464832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47"/>
          <p:cNvSpPr/>
          <p:nvPr/>
        </p:nvSpPr>
        <p:spPr>
          <a:xfrm>
            <a:off x="4267080" y="3200400"/>
            <a:ext cx="4359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ll velocity and acceleration-independent forces are zer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force causing unit accelera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he rob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44:40Z</dcterms:created>
  <dc:creator>Chand</dc:creator>
  <dc:description/>
  <dc:language>en-US</dc:language>
  <cp:lastModifiedBy>ctj</cp:lastModifiedBy>
  <dcterms:modified xsi:type="dcterms:W3CDTF">2013-12-16T03:07:24Z</dcterms:modified>
  <cp:revision>100</cp:revision>
  <dc:subject/>
  <dc:title>Physics-Based Simulation in Computer Graphics</dc:title>
</cp:coreProperties>
</file>