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39C-6BB2-4741-B964-95E0818C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7BB-C041-48A5-9CB6-CC62FC79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41C-6DE9-4F1C-A199-232CB637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E7E-8A59-49CB-BB7A-B4421DBB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53F-3A22-46F5-8002-DF5B4A91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341-DB85-46CA-818D-F44BA16E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69F-3279-4CE6-9631-933D7BB2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3AEB-61F2-46DE-8A9E-343B3BE4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9D9-1E5C-4DF9-98C3-84A14AB6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371-9800-477A-88D2-64CBAA3B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FBD-342F-4F9B-A513-23666632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820-3DF0-4D68-B6D6-A9EB88B0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8DC9-75C1-49A5-97B1-73817ACE1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ages.cpsc.ucalgary.ca/~parker/501/boha3d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95680" y="3848040"/>
            <a:ext cx="0" cy="12193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95680" y="4457880"/>
            <a:ext cx="19814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3911760"/>
            <a:ext cx="1981440" cy="1104840"/>
          </a:xfrm>
          <a:custGeom>
            <a:avLst/>
            <a:gdLst/>
            <a:ahLst/>
            <a:rect l="l" t="t" r="r" b="b"/>
            <a:pathLst>
              <a:path w="1248" h="696">
                <a:moveTo>
                  <a:pt x="0" y="344"/>
                </a:moveTo>
                <a:cubicBezTo>
                  <a:pt x="104" y="172"/>
                  <a:pt x="208" y="0"/>
                  <a:pt x="288" y="56"/>
                </a:cubicBezTo>
                <a:cubicBezTo>
                  <a:pt x="368" y="112"/>
                  <a:pt x="392" y="664"/>
                  <a:pt x="480" y="680"/>
                </a:cubicBezTo>
                <a:cubicBezTo>
                  <a:pt x="568" y="696"/>
                  <a:pt x="688" y="192"/>
                  <a:pt x="816" y="152"/>
                </a:cubicBezTo>
                <a:cubicBezTo>
                  <a:pt x="944" y="112"/>
                  <a:pt x="1096" y="276"/>
                  <a:pt x="1248" y="440"/>
                </a:cubicBezTo>
              </a:path>
            </a:pathLst>
          </a:custGeom>
          <a:noFill/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981080"/>
            <a:ext cx="761760" cy="76212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2743200"/>
            <a:ext cx="0" cy="289548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5638680"/>
            <a:ext cx="5335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5409360"/>
            <a:ext cx="533520" cy="2286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971880" y="3781440"/>
            <a:ext cx="762120" cy="763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21135000">
            <a:off x="4667040" y="3505320"/>
            <a:ext cx="30456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idual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3876840"/>
            <a:ext cx="152280" cy="1522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d T. Jo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880" y="2590920"/>
            <a:ext cx="182808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3240" y="2438280"/>
            <a:ext cx="1827000" cy="183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00" y="0"/>
                </a:moveTo>
                <a:arcTo wR="10800" hR="10800" stAng="-5431949" swAng="5431949"/>
                <a:lnTo>
                  <a:pt x="10800" y="10800"/>
                </a:lnTo>
                <a:close/>
              </a:path>
              <a:path fill="none" w="21600" h="21600">
                <a:moveTo>
                  <a:pt x="10700" y="0"/>
                </a:moveTo>
                <a:arcTo wR="10800" hR="10800" stAng="-5431949" swAng="543194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3352680"/>
            <a:ext cx="990720" cy="5335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-CMC Simulation Pip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1955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2184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352680" y="2412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22096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2438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7680" y="28605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78400" y="2743200"/>
            <a:ext cx="28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Posi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Pl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800" y="23623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35211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Model to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518148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0200" y="53341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3962520"/>
            <a:ext cx="1143000" cy="228600"/>
          </a:xfrm>
          <a:prstGeom prst="parallelogram">
            <a:avLst>
              <a:gd name="adj" fmla="val 1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148280" y="3657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70280" y="19177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86280" y="2158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748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30520" y="2362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105160" y="1752480"/>
            <a:ext cx="7596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876560" y="2031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2336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43680" y="1714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54760" y="20066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3876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67360" y="2463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021200" y="3657600"/>
            <a:ext cx="759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3690720" y="3733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8772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520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10120" y="4000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7664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76640" y="2095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76640" y="2476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1752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208296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2438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8004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81080" y="243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2438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7010280" y="30481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7010280" y="4648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57909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19047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666880" y="4648320"/>
            <a:ext cx="2971800" cy="1523880"/>
            <a:chOff x="2666880" y="4648320"/>
            <a:chExt cx="2971800" cy="1523880"/>
          </a:xfrm>
        </p:grpSpPr>
        <p:sp>
          <p:nvSpPr>
            <p:cNvPr id="234" name=""/>
            <p:cNvSpPr/>
            <p:nvPr/>
          </p:nvSpPr>
          <p:spPr>
            <a:xfrm>
              <a:off x="2666880" y="4648320"/>
              <a:ext cx="2971800" cy="152388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64880" y="5334120"/>
              <a:ext cx="788760" cy="4597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0800000">
              <a:off x="3866760" y="5410440"/>
              <a:ext cx="609480" cy="30456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36080" y="5334120"/>
              <a:ext cx="857520" cy="4597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M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32600" y="4648320"/>
              <a:ext cx="15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m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04920" y="6491160"/>
            <a:ext cx="861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1819440"/>
            <a:ext cx="2514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-CMC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6491160"/>
            <a:ext cx="861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7960" y="1849320"/>
            <a:ext cx="16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nlinear optim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2657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38280" y="2077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itial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42320" y="2368440"/>
            <a:ext cx="799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657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65720" y="3724200"/>
            <a:ext cx="18403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grate forward i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= 0, 1, …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–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2352600"/>
            <a:ext cx="19047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lve for accelerations using equations of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= 0, 1, …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00960" y="3952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29720" y="3511440"/>
            <a:ext cx="2144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34080" y="2368440"/>
            <a:ext cx="964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’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’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81680" y="2657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77920" y="20779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cel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01000" y="3267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791320" y="30099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96000" y="4325760"/>
            <a:ext cx="32256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36560" y="4552920"/>
            <a:ext cx="17748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bine wit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erimental kin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= 0, 1, …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697440" y="5162400"/>
            <a:ext cx="32256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63160" y="5477040"/>
            <a:ext cx="92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520" y="570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24680" y="5477040"/>
            <a:ext cx="16725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t with seventh-or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962440" y="570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98000" y="547704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447920" y="570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3200" y="5467320"/>
            <a:ext cx="857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76120" y="2209680"/>
            <a:ext cx="243864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-CMC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data, different time intervals lead to different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hops time interval in half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angles changed unrealistically when simulating longer than half-gait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changes to lumbar extension for small reductions in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ggerated lumbar rotation (transverse trunk ro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of head, arms, torso may be too simpl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duals are not mass-norm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walking speeds lead to differen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filtering may be altering accel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6491160"/>
            <a:ext cx="861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RA-CMC Simulation Pip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955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2184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352680" y="2412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22096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2438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7680" y="28605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78400" y="2743200"/>
            <a:ext cx="28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Posi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Pl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3800" y="23623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77120" y="35211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Model to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518148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0200" y="53341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05320" y="3962520"/>
            <a:ext cx="1143000" cy="228600"/>
          </a:xfrm>
          <a:prstGeom prst="parallelogram">
            <a:avLst>
              <a:gd name="adj" fmla="val 1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148280" y="3657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70280" y="19177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86280" y="2158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2748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30520" y="2362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105160" y="1752480"/>
            <a:ext cx="7596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76560" y="2031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76920" y="2336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43680" y="1714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4760" y="20066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3876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67360" y="2463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021200" y="3657600"/>
            <a:ext cx="759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3690720" y="3733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8772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520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0120" y="4000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7664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76640" y="2095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76640" y="2476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1752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38480" y="208296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8004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243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15000" y="2438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7010280" y="30481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7010280" y="4648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0800000">
            <a:off x="57909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0800000">
            <a:off x="19047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4648320"/>
            <a:ext cx="2971800" cy="1523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75320" y="5342040"/>
            <a:ext cx="7538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38667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36080" y="5334120"/>
            <a:ext cx="8575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32600" y="464832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 vs. RRA vs. Unconstr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2209680"/>
            <a:ext cx="1295640" cy="42674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d2d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67480" y="2209680"/>
            <a:ext cx="1295640" cy="42674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c8f3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1960" y="182556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20840" y="182880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3400" y="22096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5120" y="616572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constra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470000" y="22096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461720" y="617220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constra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2666880"/>
            <a:ext cx="579096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76520" y="2362320"/>
            <a:ext cx="579096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954800">
            <a:off x="4807800" y="5110200"/>
            <a:ext cx="2081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constrained C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9825800">
            <a:off x="2288520" y="4653720"/>
            <a:ext cx="1390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 + C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1600" y="653724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ole-Body Mo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782840" y="655308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idu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676520" y="3581280"/>
            <a:ext cx="579096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rot="21099600">
            <a:off x="5459760" y="3576600"/>
            <a:ext cx="146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RA + C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69640" y="5843520"/>
            <a:ext cx="423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RA will aim to keep the error that must be allowed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eling errors (like lack of arm motion) while throw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cessive error.  We expect zero DC offset for periodic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RA-CMC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06920" y="2428920"/>
            <a:ext cx="857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71640" y="2692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33760" y="1981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3376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38320" y="2044800"/>
            <a:ext cx="1981440" cy="1231920"/>
          </a:xfrm>
          <a:custGeom>
            <a:avLst/>
            <a:gdLst/>
            <a:ahLst/>
            <a:rect l="l" t="t" r="r" b="b"/>
            <a:pathLst>
              <a:path w="1248" h="776">
                <a:moveTo>
                  <a:pt x="0" y="536"/>
                </a:moveTo>
                <a:cubicBezTo>
                  <a:pt x="52" y="656"/>
                  <a:pt x="104" y="776"/>
                  <a:pt x="144" y="728"/>
                </a:cubicBezTo>
                <a:cubicBezTo>
                  <a:pt x="184" y="680"/>
                  <a:pt x="184" y="296"/>
                  <a:pt x="240" y="248"/>
                </a:cubicBezTo>
                <a:cubicBezTo>
                  <a:pt x="296" y="200"/>
                  <a:pt x="408" y="432"/>
                  <a:pt x="480" y="440"/>
                </a:cubicBezTo>
                <a:cubicBezTo>
                  <a:pt x="552" y="448"/>
                  <a:pt x="616" y="272"/>
                  <a:pt x="672" y="296"/>
                </a:cubicBezTo>
                <a:cubicBezTo>
                  <a:pt x="728" y="320"/>
                  <a:pt x="776" y="632"/>
                  <a:pt x="816" y="584"/>
                </a:cubicBezTo>
                <a:cubicBezTo>
                  <a:pt x="856" y="536"/>
                  <a:pt x="872" y="16"/>
                  <a:pt x="912" y="8"/>
                </a:cubicBezTo>
                <a:cubicBezTo>
                  <a:pt x="952" y="0"/>
                  <a:pt x="1016" y="464"/>
                  <a:pt x="1056" y="536"/>
                </a:cubicBezTo>
                <a:cubicBezTo>
                  <a:pt x="1096" y="608"/>
                  <a:pt x="1120" y="456"/>
                  <a:pt x="1152" y="440"/>
                </a:cubicBezTo>
                <a:cubicBezTo>
                  <a:pt x="1184" y="424"/>
                  <a:pt x="1216" y="432"/>
                  <a:pt x="1248" y="44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50560" y="168768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sidual Cu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24320" y="26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86440" y="1981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8644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91360" y="2044800"/>
            <a:ext cx="1981080" cy="1231920"/>
          </a:xfrm>
          <a:custGeom>
            <a:avLst/>
            <a:gdLst/>
            <a:ahLst/>
            <a:rect l="l" t="t" r="r" b="b"/>
            <a:pathLst>
              <a:path w="1248" h="776">
                <a:moveTo>
                  <a:pt x="0" y="536"/>
                </a:moveTo>
                <a:cubicBezTo>
                  <a:pt x="52" y="656"/>
                  <a:pt x="104" y="776"/>
                  <a:pt x="144" y="728"/>
                </a:cubicBezTo>
                <a:cubicBezTo>
                  <a:pt x="184" y="680"/>
                  <a:pt x="184" y="296"/>
                  <a:pt x="240" y="248"/>
                </a:cubicBezTo>
                <a:cubicBezTo>
                  <a:pt x="296" y="200"/>
                  <a:pt x="408" y="432"/>
                  <a:pt x="480" y="440"/>
                </a:cubicBezTo>
                <a:cubicBezTo>
                  <a:pt x="552" y="448"/>
                  <a:pt x="616" y="272"/>
                  <a:pt x="672" y="296"/>
                </a:cubicBezTo>
                <a:cubicBezTo>
                  <a:pt x="728" y="320"/>
                  <a:pt x="776" y="632"/>
                  <a:pt x="816" y="584"/>
                </a:cubicBezTo>
                <a:cubicBezTo>
                  <a:pt x="856" y="536"/>
                  <a:pt x="872" y="16"/>
                  <a:pt x="912" y="8"/>
                </a:cubicBezTo>
                <a:cubicBezTo>
                  <a:pt x="952" y="0"/>
                  <a:pt x="1016" y="464"/>
                  <a:pt x="1056" y="536"/>
                </a:cubicBezTo>
                <a:cubicBezTo>
                  <a:pt x="1096" y="608"/>
                  <a:pt x="1120" y="456"/>
                  <a:pt x="1152" y="440"/>
                </a:cubicBezTo>
                <a:cubicBezTo>
                  <a:pt x="1184" y="424"/>
                  <a:pt x="1216" y="432"/>
                  <a:pt x="1248" y="44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91360" y="2743200"/>
            <a:ext cx="19047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840" y="16765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C Off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5312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86440" y="50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5762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91360" y="5076720"/>
            <a:ext cx="1981080" cy="1231920"/>
          </a:xfrm>
          <a:custGeom>
            <a:avLst/>
            <a:gdLst/>
            <a:ahLst/>
            <a:rect l="l" t="t" r="r" b="b"/>
            <a:pathLst>
              <a:path w="1248" h="776">
                <a:moveTo>
                  <a:pt x="0" y="536"/>
                </a:moveTo>
                <a:cubicBezTo>
                  <a:pt x="52" y="656"/>
                  <a:pt x="104" y="776"/>
                  <a:pt x="144" y="728"/>
                </a:cubicBezTo>
                <a:cubicBezTo>
                  <a:pt x="184" y="680"/>
                  <a:pt x="184" y="296"/>
                  <a:pt x="240" y="248"/>
                </a:cubicBezTo>
                <a:cubicBezTo>
                  <a:pt x="296" y="200"/>
                  <a:pt x="408" y="432"/>
                  <a:pt x="480" y="440"/>
                </a:cubicBezTo>
                <a:cubicBezTo>
                  <a:pt x="552" y="448"/>
                  <a:pt x="616" y="272"/>
                  <a:pt x="672" y="296"/>
                </a:cubicBezTo>
                <a:cubicBezTo>
                  <a:pt x="728" y="320"/>
                  <a:pt x="776" y="632"/>
                  <a:pt x="816" y="584"/>
                </a:cubicBezTo>
                <a:cubicBezTo>
                  <a:pt x="856" y="536"/>
                  <a:pt x="872" y="16"/>
                  <a:pt x="912" y="8"/>
                </a:cubicBezTo>
                <a:cubicBezTo>
                  <a:pt x="952" y="0"/>
                  <a:pt x="1016" y="464"/>
                  <a:pt x="1056" y="536"/>
                </a:cubicBezTo>
                <a:cubicBezTo>
                  <a:pt x="1096" y="608"/>
                  <a:pt x="1120" y="456"/>
                  <a:pt x="1152" y="440"/>
                </a:cubicBezTo>
                <a:cubicBezTo>
                  <a:pt x="1184" y="424"/>
                  <a:pt x="1216" y="432"/>
                  <a:pt x="1248" y="44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91360" y="5775480"/>
            <a:ext cx="19047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89720" y="4267080"/>
            <a:ext cx="29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er torso center of mass and back angles to remove DC off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2243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49600" y="50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49600" y="5762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4160" y="5076720"/>
            <a:ext cx="1981440" cy="1231920"/>
          </a:xfrm>
          <a:custGeom>
            <a:avLst/>
            <a:gdLst/>
            <a:ahLst/>
            <a:rect l="l" t="t" r="r" b="b"/>
            <a:pathLst>
              <a:path w="1248" h="776">
                <a:moveTo>
                  <a:pt x="0" y="536"/>
                </a:moveTo>
                <a:cubicBezTo>
                  <a:pt x="52" y="656"/>
                  <a:pt x="104" y="776"/>
                  <a:pt x="144" y="728"/>
                </a:cubicBezTo>
                <a:cubicBezTo>
                  <a:pt x="184" y="680"/>
                  <a:pt x="184" y="296"/>
                  <a:pt x="240" y="248"/>
                </a:cubicBezTo>
                <a:cubicBezTo>
                  <a:pt x="296" y="200"/>
                  <a:pt x="408" y="432"/>
                  <a:pt x="480" y="440"/>
                </a:cubicBezTo>
                <a:cubicBezTo>
                  <a:pt x="552" y="448"/>
                  <a:pt x="616" y="272"/>
                  <a:pt x="672" y="296"/>
                </a:cubicBezTo>
                <a:cubicBezTo>
                  <a:pt x="728" y="320"/>
                  <a:pt x="776" y="632"/>
                  <a:pt x="816" y="584"/>
                </a:cubicBezTo>
                <a:cubicBezTo>
                  <a:pt x="856" y="536"/>
                  <a:pt x="872" y="16"/>
                  <a:pt x="912" y="8"/>
                </a:cubicBezTo>
                <a:cubicBezTo>
                  <a:pt x="952" y="0"/>
                  <a:pt x="1016" y="464"/>
                  <a:pt x="1056" y="536"/>
                </a:cubicBezTo>
                <a:cubicBezTo>
                  <a:pt x="1096" y="608"/>
                  <a:pt x="1120" y="456"/>
                  <a:pt x="1152" y="440"/>
                </a:cubicBezTo>
                <a:cubicBezTo>
                  <a:pt x="1184" y="424"/>
                  <a:pt x="1216" y="432"/>
                  <a:pt x="1248" y="44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54160" y="5775480"/>
            <a:ext cx="19051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52520" y="4267080"/>
            <a:ext cx="29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clamping values for each residual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38320" y="5486400"/>
            <a:ext cx="19051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22480" y="6019920"/>
            <a:ext cx="19051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40400" y="5486400"/>
            <a:ext cx="857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905120" y="574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5520" y="4343400"/>
            <a:ext cx="592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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6600" y="35812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in Kinema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4335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6621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06920" y="5400720"/>
            <a:ext cx="857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71640" y="5664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33760" y="4952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33760" y="5638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38320" y="5016600"/>
            <a:ext cx="1981440" cy="1231920"/>
          </a:xfrm>
          <a:custGeom>
            <a:avLst/>
            <a:gdLst/>
            <a:ahLst/>
            <a:rect l="l" t="t" r="r" b="b"/>
            <a:pathLst>
              <a:path w="1248" h="776">
                <a:moveTo>
                  <a:pt x="0" y="536"/>
                </a:moveTo>
                <a:cubicBezTo>
                  <a:pt x="52" y="656"/>
                  <a:pt x="104" y="776"/>
                  <a:pt x="144" y="728"/>
                </a:cubicBezTo>
                <a:cubicBezTo>
                  <a:pt x="184" y="680"/>
                  <a:pt x="184" y="296"/>
                  <a:pt x="240" y="248"/>
                </a:cubicBezTo>
                <a:cubicBezTo>
                  <a:pt x="296" y="200"/>
                  <a:pt x="408" y="432"/>
                  <a:pt x="480" y="440"/>
                </a:cubicBezTo>
                <a:cubicBezTo>
                  <a:pt x="552" y="448"/>
                  <a:pt x="616" y="272"/>
                  <a:pt x="672" y="296"/>
                </a:cubicBezTo>
                <a:cubicBezTo>
                  <a:pt x="728" y="320"/>
                  <a:pt x="776" y="632"/>
                  <a:pt x="816" y="584"/>
                </a:cubicBezTo>
                <a:cubicBezTo>
                  <a:pt x="856" y="536"/>
                  <a:pt x="872" y="16"/>
                  <a:pt x="912" y="8"/>
                </a:cubicBezTo>
                <a:cubicBezTo>
                  <a:pt x="952" y="0"/>
                  <a:pt x="1016" y="464"/>
                  <a:pt x="1056" y="536"/>
                </a:cubicBezTo>
                <a:cubicBezTo>
                  <a:pt x="1096" y="608"/>
                  <a:pt x="1120" y="456"/>
                  <a:pt x="1152" y="440"/>
                </a:cubicBezTo>
                <a:cubicBezTo>
                  <a:pt x="1184" y="424"/>
                  <a:pt x="1216" y="432"/>
                  <a:pt x="1248" y="44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50560" y="465948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sidual Cu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24320" y="5667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86440" y="4952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86440" y="5638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91360" y="5016600"/>
            <a:ext cx="1981080" cy="1231920"/>
          </a:xfrm>
          <a:custGeom>
            <a:avLst/>
            <a:gdLst/>
            <a:ahLst/>
            <a:rect l="l" t="t" r="r" b="b"/>
            <a:pathLst>
              <a:path w="1248" h="776">
                <a:moveTo>
                  <a:pt x="0" y="536"/>
                </a:moveTo>
                <a:cubicBezTo>
                  <a:pt x="52" y="656"/>
                  <a:pt x="104" y="776"/>
                  <a:pt x="144" y="728"/>
                </a:cubicBezTo>
                <a:cubicBezTo>
                  <a:pt x="184" y="680"/>
                  <a:pt x="184" y="296"/>
                  <a:pt x="240" y="248"/>
                </a:cubicBezTo>
                <a:cubicBezTo>
                  <a:pt x="296" y="200"/>
                  <a:pt x="408" y="432"/>
                  <a:pt x="480" y="440"/>
                </a:cubicBezTo>
                <a:cubicBezTo>
                  <a:pt x="552" y="448"/>
                  <a:pt x="616" y="272"/>
                  <a:pt x="672" y="296"/>
                </a:cubicBezTo>
                <a:cubicBezTo>
                  <a:pt x="728" y="320"/>
                  <a:pt x="776" y="632"/>
                  <a:pt x="816" y="584"/>
                </a:cubicBezTo>
                <a:cubicBezTo>
                  <a:pt x="856" y="536"/>
                  <a:pt x="872" y="16"/>
                  <a:pt x="912" y="8"/>
                </a:cubicBezTo>
                <a:cubicBezTo>
                  <a:pt x="952" y="0"/>
                  <a:pt x="1016" y="464"/>
                  <a:pt x="1056" y="536"/>
                </a:cubicBezTo>
                <a:cubicBezTo>
                  <a:pt x="1096" y="608"/>
                  <a:pt x="1120" y="456"/>
                  <a:pt x="1152" y="440"/>
                </a:cubicBezTo>
                <a:cubicBezTo>
                  <a:pt x="1184" y="424"/>
                  <a:pt x="1216" y="432"/>
                  <a:pt x="1248" y="44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91360" y="5715000"/>
            <a:ext cx="19047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77840" y="46483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C Off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07560" y="1873080"/>
            <a:ext cx="5417280" cy="25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t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rso center of m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-coordinate ±0.01, ±0.03, ±0.05, ±0.0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-coordinate ±0.01, ±0.03, ±0.05, ±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-coordinate ±0.01, ±0.03, ±0.05, ±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ck ang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umbar extension ±0.3, ±1.0, ±3.0, ±5.0, ±7.0, ±1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umbar bending ±0.3, ±1.0, ±3.0, ±5.0, ±7.0, ±1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umbar rotation ±0.3, ±1.0, ±2.0, ±5.0, ±7.0, ±1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5600" y="1928880"/>
            <a:ext cx="17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e su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6, child with 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rso COM Sensi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523880" y="1752480"/>
          <a:ext cx="6096240" cy="465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– 0.0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477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– 0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937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– 0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698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– 0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458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38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+ 0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218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+ 0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978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+ 0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738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+ 0.0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198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mbar Rotation Insensi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2971800" y="1600200"/>
          <a:ext cx="2971800" cy="513864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– 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483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– 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439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–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41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– 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66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– 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52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– 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42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38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+ 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33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+ 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23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+ 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0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+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26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+ 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241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+ 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201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the lumbar rotation angle does not seem to affect the residual forces or moments significa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ies of residual curves appear to be smooth functions of the perturbation amount applied to the torso center of mass or back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perturbations are needed to make the DC offsets in RRA reasonably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A-CMC running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79640" y="5349960"/>
            <a:ext cx="19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54200" y="5334120"/>
            <a:ext cx="15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h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62520" y="552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73240" y="577224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35200" y="57722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4000" y="552456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17 minutes/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157400" y="58669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519360" y="54860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843200" y="54860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976560" y="58669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ject-Specific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1955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2184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352680" y="2412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2096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2438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7680" y="28605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78400" y="2743200"/>
            <a:ext cx="28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Posi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Pl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800" y="23623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5211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Model to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518148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0200" y="53341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962520"/>
            <a:ext cx="1143000" cy="228600"/>
          </a:xfrm>
          <a:prstGeom prst="parallelogram">
            <a:avLst>
              <a:gd name="adj" fmla="val 1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148280" y="3657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70280" y="19177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86280" y="2158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2748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30520" y="2362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105160" y="1752480"/>
            <a:ext cx="7596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876560" y="2031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2336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3680" y="1714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54760" y="20066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3876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67360" y="2463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021200" y="3657600"/>
            <a:ext cx="759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690720" y="3733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8772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520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0120" y="4000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7664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76640" y="2095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76640" y="2476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1752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08296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438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004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43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438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7010280" y="30481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010280" y="4648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57909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19047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4648320"/>
            <a:ext cx="2971800" cy="1523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3040" y="51814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iginal Residual Curve Lim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80880" y="2514600"/>
            <a:ext cx="8305200" cy="2971080"/>
            <a:chOff x="380880" y="2514600"/>
            <a:chExt cx="8305200" cy="2971080"/>
          </a:xfrm>
        </p:grpSpPr>
        <p:sp>
          <p:nvSpPr>
            <p:cNvPr id="405" name=""/>
            <p:cNvSpPr/>
            <p:nvPr/>
          </p:nvSpPr>
          <p:spPr>
            <a:xfrm>
              <a:off x="380880" y="2514600"/>
              <a:ext cx="7574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38320" y="2514600"/>
              <a:ext cx="126612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04800" y="2514600"/>
              <a:ext cx="126540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70200" y="2514600"/>
              <a:ext cx="126612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36680" y="2514600"/>
              <a:ext cx="126612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02800" y="2514600"/>
              <a:ext cx="121788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20680" y="2514600"/>
              <a:ext cx="126540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0880" y="3537000"/>
              <a:ext cx="75744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38320" y="3537000"/>
              <a:ext cx="12661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8774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04800" y="3537000"/>
              <a:ext cx="126540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1.568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70200" y="3537000"/>
              <a:ext cx="12661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7998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36680" y="3537000"/>
              <a:ext cx="12661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0317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02800" y="3537000"/>
              <a:ext cx="12178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999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20680" y="3537000"/>
              <a:ext cx="126540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.7666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880" y="4511160"/>
              <a:ext cx="75744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38320" y="4511160"/>
              <a:ext cx="126612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2.877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04800" y="4511160"/>
              <a:ext cx="126540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0.48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70200" y="4511160"/>
              <a:ext cx="126612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.325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36680" y="4511160"/>
              <a:ext cx="126612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3.81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02800" y="4511160"/>
              <a:ext cx="121788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.898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20680" y="4511160"/>
              <a:ext cx="126540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0.38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RA’s Improvements over 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run for longer time intervals with high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RA can run on an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iduals applied anywhere 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istribute corrections across parameters using clamping, instead of restricting to back angles and pelvis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 vs RRA vs BSP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57200" y="1676520"/>
          <a:ext cx="8229600" cy="4092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-CMC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RA-CM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imation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er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me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back, pel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ll input parame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rtial parame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d” 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 model kinema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ll tracked kinema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m and leg kinema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 Minimiz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, pelvis kinema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verall kinema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Fs and torq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228600" y="640080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B. J. Fregly, J. A. Reinbolt.  Estimation of Body Segment Parameters from Three-Dimensional Gait Data Using Optimization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International Symposium on 3D Analysis of Human Movemen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13-16, 200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s of Arm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motion and vertical free moments balance trunk torques caused by lower extre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motion less important at slower walking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fixation alters vertical free moments and transverse forces more in males than in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6477120"/>
            <a:ext cx="861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Y. Li, W. Wang, R. H. Crompton, M. M. Gunther.  Free Vertical Moments and Transverse Forces in Human Walking and Their Role in Relation to Arm-Swing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 Exp Bi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04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47-58, 200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lving Redund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5640" y="6400800"/>
            <a:ext cx="29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pages.cpsc.ucalgary.ca/~parker/501/boha3d.gif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rcRect l="0" t="6290" r="0" b="4129"/>
          <a:stretch/>
        </p:blipFill>
        <p:spPr>
          <a:xfrm>
            <a:off x="1724040" y="1828800"/>
            <a:ext cx="5514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lving Redund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ger of optimization: falling into local minima that are not global minima; more local minima for longer time intervals cause problem for 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 Carlo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ed annealin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ter but sl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gery for surg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4920" y="63691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R. R. Neptune.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ptimization Algorithm Performance in Determining Optimal Controls in Human Movement Analyses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Journal of Biomechanical Engineering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12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(2): 249-252, 199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J. S. Higginson, R. R. Neptune, F. C. Anderson.  Simulated Parallel Annealing within a Neighborhood for Optimization of Biomechanical Systems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938-1942, 200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tion weights on 100-10-1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rrection sugg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-line repeatable RRA-C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generation of result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dissemination (Febru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mping sensitivit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lamping, suggestions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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992920" y="5486400"/>
            <a:ext cx="2743200" cy="1219320"/>
          </a:xfrm>
          <a:prstGeom prst="irregularSeal2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MBL Simul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3040" y="19209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92320" y="19969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28840" y="1727280"/>
            <a:ext cx="2382840" cy="227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83080" y="19810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58863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6754680" y="28195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84160" y="5881680"/>
            <a:ext cx="269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or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, …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or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57200" y="6172200"/>
            <a:ext cx="163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, …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2840" y="3505320"/>
            <a:ext cx="26074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60480" y="1692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d, fil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ne-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5001840" y="60199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6754680" y="495288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72320" y="557676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, …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600" y="4343400"/>
            <a:ext cx="40777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rse Dynamics” 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ward Dynamic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efficiency without losing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optimization is accurate but slo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consistency betwee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l kinematics (from marker 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l kinetics (from force plate 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624852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F. C. Anderson, M. G. Pandy.  Dynamic Optimization of Human Walking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al Engineerin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2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81-390, 200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F. C. Anderson, M. G. Pandy.  Static and Dynamic Optimization Solutions for Gait Are Practically Equivalent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3-161, 200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ing Simula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1676520"/>
          <a:ext cx="6933960" cy="4222800"/>
        </p:xfrm>
        <a:graphic>
          <a:graphicData uri="http://schemas.openxmlformats.org/drawingml/2006/table">
            <a:tbl>
              <a:tblPr/>
              <a:tblGrid>
                <a:gridCol w="1733400"/>
                <a:gridCol w="1733400"/>
                <a:gridCol w="1733760"/>
                <a:gridCol w="17334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ynamic Optimization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mal Tracking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mputed Muscle Control</a:t>
                      </a:r>
                      <a:r>
                        <a:rPr b="1" lang="en-US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eek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ay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 minu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erg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hav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c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ac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but not all DOF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orm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nly at each time st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545360" y="504972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30560" y="5030640"/>
            <a:ext cx="112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xp – Model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335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63840" y="5364000"/>
            <a:ext cx="6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Ex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624852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F. C. Anderson, M. G. Pandy.  Dynamic Optimization of Human Walking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al Engineerin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2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81-390, 200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R. R. Neptune.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ptimization Algorithm Performance in Determining Optimal Controls in Human Movement Analyses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Journal of Biomechanical Engineering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12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(2): 249-252, 199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, S. L. Delp.  Generating Dynamic Simulations of Movement using Computed Muscle Control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21-328,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09880" y="1973160"/>
            <a:ext cx="22168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s z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s x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s y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s til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s lis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s rotat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hip flex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hip adduct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hip rotat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knee flex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ankl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ubtalar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hip flex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hip adduct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hip rotat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knee flex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kl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subtalar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mbar extens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mbar bending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mbar rotat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21040" y="1676520"/>
            <a:ext cx="29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Generalized Coordinates (DO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1744560"/>
            <a:ext cx="3909960" cy="3741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920" y="63691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F. C. Anderson, M. G. Pandy.  Dynamic Optimization of Human Walking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al Engineerin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2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81-390, 200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562720"/>
            <a:ext cx="342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 ignore metatarsophalangeal (MTP) angles, so our numbering is a bit different from that in the images abo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MC Simulation Pip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1955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2184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352680" y="2412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2096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438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7680" y="28605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78400" y="2743200"/>
            <a:ext cx="28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Posi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Pl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800" y="23623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35211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Model to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18148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0200" y="53341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3962520"/>
            <a:ext cx="1143000" cy="228600"/>
          </a:xfrm>
          <a:prstGeom prst="parallelogram">
            <a:avLst>
              <a:gd name="adj" fmla="val 1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148280" y="3657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0280" y="19177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86280" y="2158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2748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30520" y="2362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105160" y="1752480"/>
            <a:ext cx="7596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876560" y="2031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2336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43680" y="1714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54760" y="20066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3876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67360" y="2463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021200" y="3657600"/>
            <a:ext cx="759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690720" y="3733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8772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520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0120" y="4000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7664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76640" y="2095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6640" y="2476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1752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208296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2438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8004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243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2438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7010280" y="30481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7010280" y="4648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0800000">
            <a:off x="57909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19047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4648320"/>
            <a:ext cx="2971800" cy="1523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37600" y="5168880"/>
            <a:ext cx="2427120" cy="825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d 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32600" y="464832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6491160"/>
            <a:ext cx="853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, S. L. Delp.  Generating Dynamic Simulations of Movement using Computed Muscle Control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21-328,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onstrained CMC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91640" cy="3095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68280" y="4908600"/>
            <a:ext cx="831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e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 segments, 21 DOF, 92 Hill-type muscle-tendon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erimental kinematic data, kinetic ground reac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cle excitations, forces, torques; resulting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636912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, S. L. Delp.  Generating Dynamic Simulations of Movement using Computed Muscle Control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21-328,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onstrained CMC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inconsistency betwe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le-body motion (kinema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-floor interaction (kine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ictitious “residual” forces are needed to keep model from falling 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63691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M. van de Panne, A. Lamouret.  Guided Optimization for Balanced Locomotion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omputer Animation and Simulation ‘9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165-177, Springer-Verlag/Wien. 199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8:16:36Z</dcterms:created>
  <dc:creator>Chand</dc:creator>
  <dc:description/>
  <dc:language>en-US</dc:language>
  <cp:lastModifiedBy>Chand</cp:lastModifiedBy>
  <dcterms:modified xsi:type="dcterms:W3CDTF">2006-01-20T18:49:56Z</dcterms:modified>
  <cp:revision>176</cp:revision>
  <dc:subject/>
  <dc:title>Residual Reduction: Keeping Only the Necessary Error</dc:title>
</cp:coreProperties>
</file>