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move the slid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DDA68-CB12-4DE3-B143-D4D50EB1F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4145040" y="9123480"/>
            <a:ext cx="3170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AC9A1-EFD3-4FB9-A875-1EC7A19C7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4191C-0E01-46A1-92B8-B7827B326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B6778-F12F-4751-B038-45EC36FEB4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82D96-AC28-4AA7-9B94-442E2095A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05BF7-94D4-402D-A506-51C74F6C6D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28120"/>
            <a:ext cx="8305920" cy="21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lick to edit the title text format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7"/>
          <p:cNvSpPr/>
          <p:nvPr/>
        </p:nvSpPr>
        <p:spPr>
          <a:xfrm>
            <a:off x="228600" y="6477120"/>
            <a:ext cx="8686800" cy="0"/>
          </a:xfrm>
          <a:prstGeom prst="line">
            <a:avLst/>
          </a:prstGeom>
          <a:ln w="9360">
            <a:solidFill>
              <a:srgbClr val="ca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2362320" y="647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Verdana"/>
              </a:rPr>
              <a:t>OpenSim Developers’ Workshop 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s.princeton.edu/gfx/proj/sugcon/models/brain.png" TargetMode="External"/><Relationship Id="rId3" Type="http://schemas.openxmlformats.org/officeDocument/2006/relationships/hyperlink" Target="http://www.cs.princeton.edu/gfx/proj/sugcon/models/brain.pn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hyperlink" Target="http://www.cs.princeton.edu/gfx/proj/sugcon/models/brain.png" TargetMode="External"/><Relationship Id="rId6" Type="http://schemas.openxmlformats.org/officeDocument/2006/relationships/hyperlink" Target="http://www.cs.princeton.edu/gfx/proj/sugcon/models/brain.png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1480" y="5301720"/>
            <a:ext cx="8683560" cy="4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e Your Own Controller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84360" y="5943600"/>
            <a:ext cx="7769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Verdana"/>
              </a:rPr>
              <a:t>OpenSim Developers’ Workshop | October 200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5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6" descr="OpenSimJumperO"/>
          <p:cNvPicPr/>
          <p:nvPr/>
        </p:nvPicPr>
        <p:blipFill>
          <a:blip r:embed="rId1"/>
          <a:stretch/>
        </p:blipFill>
        <p:spPr>
          <a:xfrm>
            <a:off x="2286000" y="4572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40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514600" y="3886200"/>
            <a:ext cx="175248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3886200"/>
            <a:ext cx="167652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426708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184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4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38862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143000" y="1828800"/>
            <a:ext cx="6858000" cy="4114800"/>
            <a:chOff x="1143000" y="1828800"/>
            <a:chExt cx="6858000" cy="4114800"/>
          </a:xfrm>
        </p:grpSpPr>
        <p:sp>
          <p:nvSpPr>
            <p:cNvPr id="228" name=""/>
            <p:cNvSpPr/>
            <p:nvPr/>
          </p:nvSpPr>
          <p:spPr>
            <a:xfrm>
              <a:off x="1143000" y="1828800"/>
              <a:ext cx="6858000" cy="411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288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5146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004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436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15200" y="1828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862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578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94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288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2004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720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36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32004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146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862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578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288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04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720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436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15200" y="45720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146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862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8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94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43000" y="25146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43000" y="38862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143000" y="5257800"/>
              <a:ext cx="685800" cy="685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514600" y="3886200"/>
            <a:ext cx="27432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7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257800" y="3505320"/>
            <a:ext cx="685800" cy="68580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18288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629400" y="2133720"/>
            <a:ext cx="685800" cy="350496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23623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445720" y="79380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+</a:t>
            </a:r>
            <a:r>
              <a:rPr b="0" i="1" lang="en-US" sz="2400" spc="-1" strike="noStrike">
                <a:solidFill>
                  <a:srgbClr val="ff0000"/>
                </a:solidFill>
                <a:latin typeface="Verdan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0880" y="2590920"/>
            <a:ext cx="8382240" cy="380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design: proportional (position)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667080" y="2590920"/>
            <a:ext cx="5458320" cy="39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z”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+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– z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= m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l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lef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 if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&gt; 0 )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want block to move to the righ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_muscle_excitation = |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| /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Verdana"/>
              </a:rPr>
              <a:t>opt,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ls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{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don’t want block to move at al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_muscle_excitation = R_muscle_excitation = 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704160" y="1203480"/>
            <a:ext cx="780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pprox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tend muscles are idealized linear actuators that can only pu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forc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scle_excit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x_isometric_fo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 position control (with position gai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overview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1981080"/>
            <a:ext cx="739152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TugOfWarController : 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CustomController 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kp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mpute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1901880"/>
            <a:ext cx="73915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virtual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mputeControl(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SimTK::State&amp; s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dex )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 = s.getTim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cle* act =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ynamic_ca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Muscle*&gt;(&amp;_actuatorSet.get( index )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 = desiredModelZPosi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desa = desiredModelZAcceleration(t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cons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Coordinate&amp; zCoord = _model-&gt;getCoordinateSet(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ToGround_zTranslation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z = zCoord.getValue(s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pErrTerm = kp * abs( zdes - z 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Acc = zdesa + pErrTerm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esFrc = desAcc * blockMass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opt = act-&gt;getMaxIsometricForce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desFrc &lt; 0 &amp;&amp; index == 0 || desFrc &gt; 0 &amp;&amp; index == 1 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abs( desFrc ) / Fop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el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lt; 0.0 ) newControl = 0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 newControl &gt; 1.0 ) newControl = 1.0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newContro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Controller implementation: constructo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657520"/>
            <a:ext cx="7391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gOfWarController( Model&amp; aModel, 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Kp )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ustomController( aModel ), kp( aKp ) {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8000"/>
                </a:solidFill>
                <a:latin typeface="Verdana"/>
              </a:rPr>
              <a:t>// Read the mass of the bloc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lockMass = aModel.getBodySet().get(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).getMass()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d::cout &lt;&lt; std::endl &lt;&lt; </a:t>
            </a:r>
            <a:r>
              <a:rPr b="0" lang="en-US" sz="1400" spc="-1" strike="noStrike">
                <a:solidFill>
                  <a:srgbClr val="ff0000"/>
                </a:solidFill>
                <a:latin typeface="Verdana"/>
              </a:rPr>
              <a:t>“blockMass = ”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&lt;&lt; blockMa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&lt; std::endl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The main() rout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1222920" y="1974960"/>
            <a:ext cx="66409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reate an OpenSim model from the model file provided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 osimModel( 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“tugOfWar_model_ThelenOnly.osim”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kp = 100.0;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position g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knows about model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controller can receive states and send contr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 *controller = </a:t>
            </a: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ugOfWarController( osimModel, kp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knows about controller, s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8000"/>
                </a:solidFill>
                <a:latin typeface="Verdana"/>
              </a:rPr>
              <a:t>// model can receive controls and send 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simModel.addController( controller 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ff"/>
                </a:solidFill>
                <a:latin typeface="Verdana"/>
              </a:rPr>
              <a:t>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43720" cy="44575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1: CMake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95480" y="1295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794600" y="990720"/>
            <a:ext cx="22640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019560" y="1295280"/>
            <a:ext cx="549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5531040" y="990720"/>
            <a:ext cx="2123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) Enter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direc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295280" y="3657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479880" y="3352680"/>
            <a:ext cx="169272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1904760" y="5181120"/>
            <a:ext cx="2057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2895480" y="6019920"/>
            <a:ext cx="251460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figur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aga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2742840" y="5181120"/>
            <a:ext cx="3886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5562720" y="6019920"/>
            <a:ext cx="19047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) Click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ene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5257800" y="3200400"/>
            <a:ext cx="1828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109920" y="3581280"/>
            <a:ext cx="2102400" cy="733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) Enter the top-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rectory of you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penSim install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28600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/>
          <p:nvPr/>
        </p:nvSpPr>
        <p:spPr>
          <a:xfrm>
            <a:off x="4893840" y="507348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ns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"/>
          <p:cNvSpPr/>
          <p:nvPr/>
        </p:nvSpPr>
        <p:spPr>
          <a:xfrm>
            <a:off x="6843960" y="1981080"/>
            <a:ext cx="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379160" y="1981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609480" y="1028880"/>
            <a:ext cx="7848720" cy="53719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2: compile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1662120" y="1828800"/>
            <a:ext cx="2604960" cy="5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4372200" y="1676520"/>
            <a:ext cx="25502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ght-click and choo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uil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1267200" y="228600"/>
            <a:ext cx="658764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e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OpenSimAPIExamples\ControllerExample\Build\ControllerExample.sl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533520" y="1066680"/>
            <a:ext cx="8001000" cy="60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Run the simulation – step 3: run program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2520" y="1174680"/>
            <a:ext cx="567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:\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72108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668000" y="1143000"/>
            <a:ext cx="305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8094240" y="1143000"/>
            <a:ext cx="38340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7696080" y="1219320"/>
            <a:ext cx="228600" cy="304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7696080" y="1219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1676520"/>
            <a:ext cx="8001000" cy="4495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cd Desktop\OpenSimAPIExamples\OpenS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APIExamples\ControllerExamp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:\Documents and Settings\ctj\Desktop\OpenSimAPIExamples\OpenSimA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IExamples\ControllerExample&gt;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Build\Release\main.ex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This program includes software developed by t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Apache Software Foundation (http://www.apache.org/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Created model osimModel from file tugOfWar_model_ThelenOnly.osi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p = 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kv = 8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be0e3"/>
                </a:solidFill>
                <a:latin typeface="Verdana"/>
              </a:rPr>
              <a:t>blockMass = 2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1511640" y="1143000"/>
            <a:ext cx="28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and Promp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the simulation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42" name="Rectangle 3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26654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5158800" y="4968720"/>
            <a:ext cx="308556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portion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6" dur="4134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8" dur="4134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mprove your controller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erivative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error term in control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g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s i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677120" y="5029200"/>
            <a:ext cx="3778920" cy="124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ategy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imi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on error calc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meless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"/>
          <p:cNvSpPr/>
          <p:nvPr/>
        </p:nvSpPr>
        <p:spPr>
          <a:xfrm>
            <a:off x="4691160" y="2971800"/>
            <a:ext cx="361260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10 places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de (labeled 1-1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you should mak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Visualize your new simulation!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533520" y="2058840"/>
            <a:ext cx="3809880" cy="2665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1198800" y="495288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ired mo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5239080" y="4968720"/>
            <a:ext cx="292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D control sol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1600,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8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Rectangle 3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8098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4134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4134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09480" y="1120680"/>
            <a:ext cx="77122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3709440" y="1295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320360" y="228600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s/Excita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5238720" y="2736720"/>
          <a:ext cx="228600" cy="2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720" y="2736720"/>
                    <a:ext cx="228600" cy="2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>
            <a:off x="4916880" y="4552920"/>
            <a:ext cx="76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a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622760" y="4933800"/>
          <a:ext cx="1384200" cy="4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22760" y="4933800"/>
                    <a:ext cx="138420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67080" y="213372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6720" y="5638680"/>
            <a:ext cx="22100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1905120"/>
            <a:ext cx="16761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6783120" y="19810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1905120"/>
            <a:ext cx="3276360" cy="3962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1786680" y="1981080"/>
            <a:ext cx="162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1162440" y="5664240"/>
            <a:ext cx="2863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http://</a:t>
            </a:r>
            <a:r>
              <a:rPr b="0" lang="en-US" sz="7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www.cs.princeton.edu/gfx/proj/sugcon/models/brain.png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219320" y="2895480"/>
            <a:ext cx="2819160" cy="2478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6686640" y="2438280"/>
            <a:ext cx="1253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7200" y="533520"/>
            <a:ext cx="82296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779760" y="1295280"/>
            <a:ext cx="41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a controller to do th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118880" y="549288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5276160" y="22096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 mus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2174760"/>
            <a:ext cx="4190760" cy="293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V="1">
            <a:off x="7238880" y="419076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867280" y="4419720"/>
            <a:ext cx="9144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5441760" y="4648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 (-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6990480" y="365760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 (+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4134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15920" y="5060880"/>
          <a:ext cx="716292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5060880"/>
                    <a:ext cx="716292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7098480" y="3048120"/>
            <a:ext cx="2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118880" y="1219320"/>
            <a:ext cx="68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nt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to go from 0 to +0.15 to -0.15 to 0 in 2 seco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Rectangle 3"/>
          <p:cNvGraphicFramePr/>
          <p:nvPr/>
        </p:nvGraphicFramePr>
        <p:xfrm>
          <a:off x="1749600" y="1600200"/>
          <a:ext cx="5433840" cy="3446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9600" y="1600200"/>
                    <a:ext cx="543384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2648520" y="1600200"/>
            <a:ext cx="583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28120"/>
            <a:ext cx="8305920" cy="4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Desired trajectory</a:t>
            </a:r>
            <a:endParaRPr b="1" lang="en-US" sz="2400" spc="-1" strike="noStrike" u="sng">
              <a:solidFill>
                <a:srgbClr val="ca0d0d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772400" y="152280"/>
            <a:ext cx="1143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7848720" y="380880"/>
            <a:ext cx="990360" cy="1526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28600"/>
            <a:ext cx="9903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7848720" y="609480"/>
            <a:ext cx="99036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286000"/>
            <a:ext cx="7925040" cy="40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1316880" y="3276720"/>
            <a:ext cx="628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iredModelZPosition( 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 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// z_des(t) = 0.15 sin( pi * t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0.15 * sin( Pi * t 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Rectangle 3"/>
          <p:cNvGraphicFramePr/>
          <p:nvPr/>
        </p:nvGraphicFramePr>
        <p:xfrm>
          <a:off x="2057400" y="1373040"/>
          <a:ext cx="4724280" cy="6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3040"/>
                    <a:ext cx="472428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2768760" y="2514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1143000"/>
            <a:ext cx="7925040" cy="5181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743200"/>
            <a:ext cx="7315200" cy="10666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2057400"/>
            <a:ext cx="7315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sired trajec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3962520"/>
            <a:ext cx="7315200" cy="2057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nect model and contro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si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457200" y="528480"/>
            <a:ext cx="8229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a0d0d"/>
                </a:solidFill>
                <a:uFillTx/>
                <a:latin typeface="Arial"/>
              </a:rPr>
              <a:t>Investigating movement control in OpenSi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2768760" y="1371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trollerExample.cp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66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01:29:00Z</dcterms:created>
  <dc:creator>Ajay</dc:creator>
  <dc:description/>
  <dc:language>en-US</dc:language>
  <cp:lastModifiedBy>Chand</cp:lastModifiedBy>
  <dcterms:modified xsi:type="dcterms:W3CDTF">2009-10-28T04:59:18Z</dcterms:modified>
  <cp:revision>765</cp:revision>
  <dc:subject/>
  <dc:title>Slide 1</dc:title>
</cp:coreProperties>
</file>