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Click to move the slide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7FF7BA-F0D0-423A-ACE9-CA4BB5DD17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4145040" y="9123480"/>
            <a:ext cx="3170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1DE3C5-C977-40E7-A520-5074C42446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6D6F84-467E-4C8D-B1FE-52626CCA14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246E4A-C9FB-4A63-B685-B6AFC2C551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08F113-9F28-41D1-A6E0-533BA734B0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109978-5D6B-4760-94EA-39F3F77AB7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28120"/>
            <a:ext cx="8305920" cy="21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Click to edit the title text format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7"/>
          <p:cNvSpPr/>
          <p:nvPr/>
        </p:nvSpPr>
        <p:spPr>
          <a:xfrm>
            <a:off x="228600" y="6477120"/>
            <a:ext cx="8686800" cy="0"/>
          </a:xfrm>
          <a:prstGeom prst="line">
            <a:avLst/>
          </a:prstGeom>
          <a:ln w="9360">
            <a:solidFill>
              <a:srgbClr val="ca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2362320" y="6477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Verdana"/>
              </a:rPr>
              <a:t>OpenSim Developers’ Workshop 20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cs.princeton.edu/gfx/proj/sugcon/models/brain.png" TargetMode="External"/><Relationship Id="rId3" Type="http://schemas.openxmlformats.org/officeDocument/2006/relationships/hyperlink" Target="http://www.cs.princeton.edu/gfx/proj/sugcon/models/brain.png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hyperlink" Target="http://www.cs.princeton.edu/gfx/proj/sugcon/models/brain.png" TargetMode="External"/><Relationship Id="rId6" Type="http://schemas.openxmlformats.org/officeDocument/2006/relationships/hyperlink" Target="http://www.cs.princeton.edu/gfx/proj/sugcon/models/brain.png" TargetMode="External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1480" y="5301720"/>
            <a:ext cx="8683560" cy="466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eate Your Own Controller!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684360" y="5943600"/>
            <a:ext cx="77691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Verdana"/>
              </a:rPr>
              <a:t>OpenSim Developers’ Workshop | October 20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Line 5"/>
          <p:cNvSpPr/>
          <p:nvPr/>
        </p:nvSpPr>
        <p:spPr>
          <a:xfrm>
            <a:off x="304920" y="5867280"/>
            <a:ext cx="853416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" name="Picture 6" descr="OpenSimJumperO"/>
          <p:cNvPicPr/>
          <p:nvPr/>
        </p:nvPicPr>
        <p:blipFill>
          <a:blip r:embed="rId1"/>
          <a:stretch/>
        </p:blipFill>
        <p:spPr>
          <a:xfrm>
            <a:off x="2286000" y="45720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Controller design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772400" y="152280"/>
            <a:ext cx="1143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7848720" y="380880"/>
            <a:ext cx="99036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7848720" y="228600"/>
            <a:ext cx="990360" cy="76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7848720" y="609480"/>
            <a:ext cx="99036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143000" y="1828800"/>
            <a:ext cx="6858000" cy="4114800"/>
            <a:chOff x="1143000" y="1828800"/>
            <a:chExt cx="6858000" cy="4114800"/>
          </a:xfrm>
        </p:grpSpPr>
        <p:sp>
          <p:nvSpPr>
            <p:cNvPr id="140" name=""/>
            <p:cNvSpPr/>
            <p:nvPr/>
          </p:nvSpPr>
          <p:spPr>
            <a:xfrm>
              <a:off x="1143000" y="1828800"/>
              <a:ext cx="6858000" cy="411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8288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146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004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720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436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152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862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2578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294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288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004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5720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436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3152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146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862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2578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294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288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004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720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436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3152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146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862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578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6294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1430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430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430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2514600" y="3886200"/>
            <a:ext cx="1752480" cy="0"/>
          </a:xfrm>
          <a:prstGeom prst="line">
            <a:avLst/>
          </a:prstGeom>
          <a:ln w="12708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4952880" y="3886200"/>
            <a:ext cx="1676520" cy="0"/>
          </a:xfrm>
          <a:prstGeom prst="line">
            <a:avLst/>
          </a:prstGeom>
          <a:ln w="12708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4267080" y="3505320"/>
            <a:ext cx="685800" cy="6858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2133720"/>
            <a:ext cx="685800" cy="350496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100000">
                <a:srgbClr val="c0c0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6629400" y="2133720"/>
            <a:ext cx="685800" cy="350496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100000">
                <a:srgbClr val="c0c0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1371600"/>
            <a:ext cx="23623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5445720" y="793800"/>
            <a:ext cx="4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+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Controller design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772400" y="152280"/>
            <a:ext cx="1143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7848720" y="380880"/>
            <a:ext cx="99036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848720" y="228600"/>
            <a:ext cx="990360" cy="76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7848720" y="609480"/>
            <a:ext cx="99036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143000" y="1828800"/>
            <a:ext cx="6858000" cy="4114800"/>
            <a:chOff x="1143000" y="1828800"/>
            <a:chExt cx="6858000" cy="4114800"/>
          </a:xfrm>
        </p:grpSpPr>
        <p:sp>
          <p:nvSpPr>
            <p:cNvPr id="184" name=""/>
            <p:cNvSpPr/>
            <p:nvPr/>
          </p:nvSpPr>
          <p:spPr>
            <a:xfrm>
              <a:off x="1143000" y="1828800"/>
              <a:ext cx="6858000" cy="411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288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146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004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5720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9436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3152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862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578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6294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288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004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720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436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3152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146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862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2578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6294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288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004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720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9436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3152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5146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862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2578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6294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1430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430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430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514600" y="3886200"/>
            <a:ext cx="685800" cy="0"/>
          </a:xfrm>
          <a:prstGeom prst="line">
            <a:avLst/>
          </a:prstGeom>
          <a:ln w="12708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3886200" y="3886200"/>
            <a:ext cx="2743200" cy="0"/>
          </a:xfrm>
          <a:prstGeom prst="line">
            <a:avLst/>
          </a:prstGeom>
          <a:ln w="12708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3200400" y="3505320"/>
            <a:ext cx="685800" cy="6858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"/>
          <p:cNvSpPr/>
          <p:nvPr/>
        </p:nvSpPr>
        <p:spPr>
          <a:xfrm>
            <a:off x="1828800" y="2133720"/>
            <a:ext cx="685800" cy="350496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100000">
                <a:srgbClr val="c0c0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"/>
          <p:cNvSpPr/>
          <p:nvPr/>
        </p:nvSpPr>
        <p:spPr>
          <a:xfrm>
            <a:off x="6629400" y="2133720"/>
            <a:ext cx="685800" cy="350496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100000">
                <a:srgbClr val="c0c0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1371600"/>
            <a:ext cx="23623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"/>
          <p:cNvSpPr/>
          <p:nvPr/>
        </p:nvSpPr>
        <p:spPr>
          <a:xfrm>
            <a:off x="5445720" y="793800"/>
            <a:ext cx="4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+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Controller design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772400" y="152280"/>
            <a:ext cx="1143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"/>
          <p:cNvSpPr/>
          <p:nvPr/>
        </p:nvSpPr>
        <p:spPr>
          <a:xfrm>
            <a:off x="7848720" y="380880"/>
            <a:ext cx="99036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7848720" y="228600"/>
            <a:ext cx="990360" cy="76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7848720" y="609480"/>
            <a:ext cx="99036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143000" y="1828800"/>
            <a:ext cx="6858000" cy="4114800"/>
            <a:chOff x="1143000" y="1828800"/>
            <a:chExt cx="6858000" cy="4114800"/>
          </a:xfrm>
        </p:grpSpPr>
        <p:sp>
          <p:nvSpPr>
            <p:cNvPr id="228" name=""/>
            <p:cNvSpPr/>
            <p:nvPr/>
          </p:nvSpPr>
          <p:spPr>
            <a:xfrm>
              <a:off x="1143000" y="1828800"/>
              <a:ext cx="6858000" cy="411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288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5146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2004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720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9436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3152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862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578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6294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8288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004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720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436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3152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146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8862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578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294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288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2004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720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9436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3152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5146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8862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2578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294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1430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430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1430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2514600" y="3886200"/>
            <a:ext cx="2743200" cy="0"/>
          </a:xfrm>
          <a:prstGeom prst="line">
            <a:avLst/>
          </a:prstGeom>
          <a:ln w="12708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708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5257800" y="3505320"/>
            <a:ext cx="685800" cy="6858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1828800" y="2133720"/>
            <a:ext cx="685800" cy="350496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100000">
                <a:srgbClr val="c0c0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"/>
          <p:cNvSpPr/>
          <p:nvPr/>
        </p:nvSpPr>
        <p:spPr>
          <a:xfrm>
            <a:off x="6629400" y="2133720"/>
            <a:ext cx="685800" cy="350496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100000">
                <a:srgbClr val="c0c0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0" y="1371600"/>
            <a:ext cx="23623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"/>
          <p:cNvSpPr/>
          <p:nvPr/>
        </p:nvSpPr>
        <p:spPr>
          <a:xfrm>
            <a:off x="5445720" y="793800"/>
            <a:ext cx="4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+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80880" y="2590920"/>
            <a:ext cx="8382240" cy="380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Controller design: proportional (position) control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772400" y="152280"/>
            <a:ext cx="1143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"/>
          <p:cNvSpPr/>
          <p:nvPr/>
        </p:nvSpPr>
        <p:spPr>
          <a:xfrm>
            <a:off x="7848720" y="380880"/>
            <a:ext cx="99036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228600"/>
            <a:ext cx="990360" cy="76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7848720" y="609480"/>
            <a:ext cx="99036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667080" y="2590920"/>
            <a:ext cx="5458320" cy="39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= z”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+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 z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z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= m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d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 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&lt; 0 ) { 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// want block to move to the lef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_muscle_excitation = |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| / 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opt,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_muscle_excitation = 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else if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 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&gt; 0 ) { 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// want block to move to the righ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_muscle_excitation = 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_muscle_excitation = |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| / 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opt,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{ 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// don’t want block to move at al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_muscle_excitation = R_muscle_excitation = 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"/>
          <p:cNvSpPr/>
          <p:nvPr/>
        </p:nvSpPr>
        <p:spPr>
          <a:xfrm>
            <a:off x="704160" y="1203480"/>
            <a:ext cx="780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pproxi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tend muscles are idealized linear actuators that can only pu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uscle_forc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uscle_excit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*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x_isometric_fo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position control (with position gain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k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Controller implementation: overview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772400" y="152280"/>
            <a:ext cx="1143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7848720" y="380880"/>
            <a:ext cx="99036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7848720" y="228600"/>
            <a:ext cx="990360" cy="76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7848720" y="609480"/>
            <a:ext cx="99036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1143000"/>
            <a:ext cx="7925040" cy="518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838080" y="1981080"/>
            <a:ext cx="739152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TugOfWarController : </a:t>
            </a: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CustomController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ugOfWarController( Model&amp; aModel,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Kp )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ustomController( aModel ), kp( aKp 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virtual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omputeControl(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SimTK::State&amp; s,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ndex )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newControl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kp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blockMas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2768760" y="1371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Example.cp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Controller implementation: computeControl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772400" y="152280"/>
            <a:ext cx="1143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7848720" y="380880"/>
            <a:ext cx="99036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7848720" y="228600"/>
            <a:ext cx="990360" cy="76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7848720" y="609480"/>
            <a:ext cx="99036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1143000"/>
            <a:ext cx="7925040" cy="518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838080" y="1901880"/>
            <a:ext cx="73915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virtual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omputeControl(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SimTK::State&amp; s,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ndex )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t = s.getTime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scle* act =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ynamic_cas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Muscle*&gt;(&amp;_actuatorSet.get( index 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zdes = desiredModelZPosition(t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zdesa = desiredModelZAcceleration(t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oordinate&amp; zCoord = _model-&gt;getCoordinateSet(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t( 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“blockToGround_zTranslation”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z = zCoord.getValue(s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pErrTerm = kp * abs( zdes - z 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desAcc = zdesa + pErrTerm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desFrc = desAcc * blockMas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opt = act-&gt;getMaxIsometricForce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newControl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 desFrc &lt; 0 &amp;&amp; index == 0 || desFrc &gt; 0 &amp;&amp; index == 1 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wControl = abs( desFrc ) / Fop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else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wControl = 0.0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 newControl &lt; 0.0 ) newControl = 0.0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 newControl &gt; 1.0 ) newControl = 1.0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newControl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768760" y="1371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Example.cp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Controller implementation: constructor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772400" y="152280"/>
            <a:ext cx="1143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>
            <a:off x="7848720" y="380880"/>
            <a:ext cx="99036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>
            <a:off x="7848720" y="228600"/>
            <a:ext cx="990360" cy="76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>
            <a:off x="7848720" y="609480"/>
            <a:ext cx="99036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609480" y="1143000"/>
            <a:ext cx="7925040" cy="518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838080" y="2657520"/>
            <a:ext cx="73915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ugOfWarController( Model&amp; aModel,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Kp )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ustomController( aModel ), kp( aKp 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8000"/>
                </a:solidFill>
                <a:latin typeface="Verdana"/>
              </a:rPr>
              <a:t>// Read the mass of the block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lockMass = aModel.getBodySet().get( 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“block”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).getMass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d::cout &lt;&lt; std::endl &lt;&lt; 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“blockMass = ”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&lt;&lt; blockMa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&lt; std::endl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2768760" y="1371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Example.cp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09480" y="1143000"/>
            <a:ext cx="7925040" cy="518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2743200"/>
            <a:ext cx="7315200" cy="1066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"/>
          <p:cNvSpPr/>
          <p:nvPr/>
        </p:nvSpPr>
        <p:spPr>
          <a:xfrm>
            <a:off x="914400" y="2057400"/>
            <a:ext cx="7315200" cy="5335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sired trajec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3962520"/>
            <a:ext cx="7315200" cy="2057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nect model and 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sim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2"/>
          <p:cNvSpPr/>
          <p:nvPr/>
        </p:nvSpPr>
        <p:spPr>
          <a:xfrm>
            <a:off x="457200" y="528480"/>
            <a:ext cx="8229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Investigating movement control in OpenSi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768760" y="1371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Example.cp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set>
                                      <p:cBhvr>
                                        <p:cTn id="24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457200" y="533520"/>
            <a:ext cx="8229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The main() rout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1143000"/>
            <a:ext cx="7925040" cy="518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1222920" y="1974960"/>
            <a:ext cx="664092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ain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// Create an OpenSim model from the model file provided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del osimModel( 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“tugOfWar_model_ThelenOnly.osim”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kp = 100.0; 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//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position ga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// Controller knows about model, s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// controller can receive states and send contro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ugOfWarController *controller = 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ugOfWarController( osimModel, kp 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// Model knows about controller, s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// model can receive controls and send sta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simModel.addController( controller 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7772400" y="152280"/>
            <a:ext cx="1143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7848720" y="380880"/>
            <a:ext cx="990360" cy="1526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7848720" y="228600"/>
            <a:ext cx="990360" cy="76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7848720" y="609480"/>
            <a:ext cx="99036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768760" y="1371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Example.cp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543720" cy="445752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Run the simulation – step 1: CMake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895480" y="1295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1794600" y="990720"/>
            <a:ext cx="226404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) Enter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direc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6019560" y="1295280"/>
            <a:ext cx="5490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>
            <a:off x="5531040" y="990720"/>
            <a:ext cx="212364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) Enter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uild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direc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>
            <a:off x="1295280" y="3657600"/>
            <a:ext cx="4572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>
            <a:off x="479880" y="3352680"/>
            <a:ext cx="169272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) Click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1904760" y="5181120"/>
            <a:ext cx="20574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2895480" y="6019920"/>
            <a:ext cx="251460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5) Click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figur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gai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 flipH="1" flipV="1">
            <a:off x="2742840" y="5181120"/>
            <a:ext cx="3886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>
            <a:off x="5562720" y="6019920"/>
            <a:ext cx="190476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6) Click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ene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5257800" y="3200400"/>
            <a:ext cx="1828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109920" y="3581280"/>
            <a:ext cx="2102400" cy="733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4) Enter the top-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rectory of you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penSim install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9480" y="1143000"/>
            <a:ext cx="7925040" cy="518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284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Movement control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609480" y="1120680"/>
            <a:ext cx="771228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4267080" y="2133720"/>
            <a:ext cx="2210040" cy="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266720" y="5638680"/>
            <a:ext cx="2210040" cy="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"/>
          <p:cNvSpPr/>
          <p:nvPr/>
        </p:nvSpPr>
        <p:spPr>
          <a:xfrm>
            <a:off x="4711680" y="22860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ma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"/>
          <p:cNvSpPr/>
          <p:nvPr/>
        </p:nvSpPr>
        <p:spPr>
          <a:xfrm>
            <a:off x="4893840" y="507348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ns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"/>
          <p:cNvSpPr/>
          <p:nvPr/>
        </p:nvSpPr>
        <p:spPr>
          <a:xfrm>
            <a:off x="6477120" y="1905120"/>
            <a:ext cx="1676160" cy="3962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"/>
          <p:cNvSpPr/>
          <p:nvPr/>
        </p:nvSpPr>
        <p:spPr>
          <a:xfrm>
            <a:off x="6843960" y="1981080"/>
            <a:ext cx="9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1905120"/>
            <a:ext cx="3276360" cy="3962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"/>
          <p:cNvSpPr/>
          <p:nvPr/>
        </p:nvSpPr>
        <p:spPr>
          <a:xfrm>
            <a:off x="1379160" y="1981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rvous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19320" y="2895480"/>
            <a:ext cx="2819160" cy="2478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62440" y="5664240"/>
            <a:ext cx="2863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</a:t>
            </a:r>
            <a:r>
              <a:rPr b="0" lang="en-US" sz="7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www.cs.princeton.edu/gfx/proj/sugcon/models/brain.png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6686640" y="2438280"/>
            <a:ext cx="1253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609480" y="1028880"/>
            <a:ext cx="7848720" cy="537192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Run the simulation – step 2: compile program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1662120" y="1828800"/>
            <a:ext cx="2604960" cy="5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4372200" y="1676520"/>
            <a:ext cx="255024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ight-click and choose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uil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1267200" y="228600"/>
            <a:ext cx="658764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pe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OpenSimAPIExamples\ControllerExample\Build\ControllerExample.sl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533520" y="1066680"/>
            <a:ext cx="8001000" cy="6098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Run the simulation – step 3: run program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22520" y="1174680"/>
            <a:ext cx="5677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:\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"/>
          <p:cNvSpPr/>
          <p:nvPr/>
        </p:nvSpPr>
        <p:spPr>
          <a:xfrm>
            <a:off x="7210800" y="1143000"/>
            <a:ext cx="30564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"/>
          <p:cNvSpPr/>
          <p:nvPr/>
        </p:nvSpPr>
        <p:spPr>
          <a:xfrm>
            <a:off x="7668000" y="1143000"/>
            <a:ext cx="30564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"/>
          <p:cNvSpPr/>
          <p:nvPr/>
        </p:nvSpPr>
        <p:spPr>
          <a:xfrm>
            <a:off x="8094240" y="1143000"/>
            <a:ext cx="38340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"/>
          <p:cNvSpPr/>
          <p:nvPr/>
        </p:nvSpPr>
        <p:spPr>
          <a:xfrm>
            <a:off x="7696080" y="1219320"/>
            <a:ext cx="22860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7696080" y="1219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1676520"/>
            <a:ext cx="8001000" cy="4495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C:\Documents and Settings\ctj&gt;</a:t>
            </a: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cd Desktop\OpenSimAPIExamples\OpenS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APIExamples\ControllerExamp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C:\Documents and Settings\ctj\Desktop\OpenSimAPIExamples\OpenSimA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IExamples\ControllerExample&gt;</a:t>
            </a: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Build\Release\main.ex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This program includes software developed by th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Apache Software Foundation (http://www.apache.org/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Created model osimModel from file tugOfWar_model_ThelenOnly.osi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kp = 16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kv = 8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blockMass = 2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"/>
          <p:cNvSpPr/>
          <p:nvPr/>
        </p:nvSpPr>
        <p:spPr>
          <a:xfrm>
            <a:off x="1511640" y="1143000"/>
            <a:ext cx="28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mand Promp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Visualize the simulation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pic>
        <p:nvPicPr>
          <p:cNvPr id="342" name="Rectangle 3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2665440"/>
          </a:xfrm>
          <a:prstGeom prst="rect">
            <a:avLst/>
          </a:prstGeom>
          <a:ln w="0">
            <a:noFill/>
          </a:ln>
        </p:spPr>
      </p:pic>
      <p:pic>
        <p:nvPicPr>
          <p:cNvPr id="343" name="Rectangle 3" descr=""/>
          <p:cNvPicPr/>
          <p:nvPr/>
        </p:nvPicPr>
        <p:blipFill>
          <a:blip r:embed="rId2"/>
          <a:stretch/>
        </p:blipFill>
        <p:spPr>
          <a:xfrm>
            <a:off x="533520" y="2058840"/>
            <a:ext cx="3809880" cy="266544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98800" y="4952880"/>
            <a:ext cx="23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ired mo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"/>
          <p:cNvSpPr/>
          <p:nvPr/>
        </p:nvSpPr>
        <p:spPr>
          <a:xfrm>
            <a:off x="5158800" y="4968720"/>
            <a:ext cx="30855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ortional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6" dur="4134" fill="hold"/>
                                        <p:tgtEl>
                                          <p:spTgt spid="3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8" dur="4134" fill="hold"/>
                                        <p:tgtEl>
                                          <p:spTgt spid="3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Improve your controller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derivative contr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ty error term in control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gai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is i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677120" y="5029200"/>
            <a:ext cx="3778920" cy="1241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ategy: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imi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ition error calc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amelessly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"/>
          <p:cNvSpPr/>
          <p:nvPr/>
        </p:nvSpPr>
        <p:spPr>
          <a:xfrm>
            <a:off x="4691160" y="2971800"/>
            <a:ext cx="361260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10 places 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de (labeled 1-10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re you should mak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ng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Visualize your new simulation!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533520" y="2058840"/>
            <a:ext cx="3809880" cy="266544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1198800" y="4952880"/>
            <a:ext cx="23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ired mo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5239080" y="4968720"/>
            <a:ext cx="2926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D control sol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600,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8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4" name="Rectangle 3" descr=""/>
          <p:cNvPicPr/>
          <p:nvPr/>
        </p:nvPicPr>
        <p:blipFill>
          <a:blip r:embed="rId2"/>
          <a:stretch/>
        </p:blipFill>
        <p:spPr>
          <a:xfrm>
            <a:off x="4800600" y="2057400"/>
            <a:ext cx="38098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" dur="4134" fill="hold"/>
                                        <p:tgtEl>
                                          <p:spTgt spid="3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6" dur="4134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284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Investigating movement control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609480" y="1120680"/>
            <a:ext cx="771228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143000"/>
            <a:ext cx="7925040" cy="518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"/>
          <p:cNvSpPr/>
          <p:nvPr/>
        </p:nvSpPr>
        <p:spPr>
          <a:xfrm>
            <a:off x="3709440" y="129528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"/>
          <p:cNvSpPr/>
          <p:nvPr/>
        </p:nvSpPr>
        <p:spPr>
          <a:xfrm>
            <a:off x="4320360" y="2286000"/>
            <a:ext cx="208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s/Excit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238720" y="2736720"/>
          <a:ext cx="228600" cy="2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720" y="2736720"/>
                    <a:ext cx="228600" cy="2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4916880" y="4552920"/>
            <a:ext cx="76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a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622760" y="4933800"/>
          <a:ext cx="1384200" cy="48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22760" y="4933800"/>
                    <a:ext cx="138420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4267080" y="2133720"/>
            <a:ext cx="2210040" cy="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266720" y="5638680"/>
            <a:ext cx="2210040" cy="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"/>
          <p:cNvSpPr/>
          <p:nvPr/>
        </p:nvSpPr>
        <p:spPr>
          <a:xfrm>
            <a:off x="6477120" y="1905120"/>
            <a:ext cx="1676160" cy="3962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"/>
          <p:cNvSpPr/>
          <p:nvPr/>
        </p:nvSpPr>
        <p:spPr>
          <a:xfrm>
            <a:off x="6783120" y="19810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1905120"/>
            <a:ext cx="3276360" cy="3962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"/>
          <p:cNvSpPr/>
          <p:nvPr/>
        </p:nvSpPr>
        <p:spPr>
          <a:xfrm>
            <a:off x="1786680" y="198108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"/>
          <p:cNvSpPr/>
          <p:nvPr/>
        </p:nvSpPr>
        <p:spPr>
          <a:xfrm>
            <a:off x="1162440" y="5664240"/>
            <a:ext cx="2863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http://</a:t>
            </a:r>
            <a:r>
              <a:rPr b="0" lang="en-US" sz="700" spc="-1" strike="noStrike" u="sng">
                <a:solidFill>
                  <a:srgbClr val="009999"/>
                </a:solidFill>
                <a:uFillTx/>
                <a:latin typeface="Verdana"/>
                <a:hlinkClick r:id="rId6"/>
              </a:rPr>
              <a:t>www.cs.princeton.edu/gfx/proj/sugcon/models/brain.png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1219320" y="2895480"/>
            <a:ext cx="2819160" cy="2478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>
            <a:off x="6686640" y="2438280"/>
            <a:ext cx="1253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9480" y="1143000"/>
            <a:ext cx="7925040" cy="518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2743200"/>
            <a:ext cx="7315200" cy="10666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2768760" y="1371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Example.cp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2057400"/>
            <a:ext cx="7315200" cy="5335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sired trajec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3962520"/>
            <a:ext cx="7315200" cy="2057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nect model and 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sim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457200" y="533520"/>
            <a:ext cx="8229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Investigating movement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457200" y="533520"/>
            <a:ext cx="8229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Investigating movement control in OpenSi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457200" y="533520"/>
            <a:ext cx="8229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779760" y="1295280"/>
            <a:ext cx="419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a controller to do thi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1118880" y="5492880"/>
            <a:ext cx="68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ant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to go from 0 to +0.15 to -0.15 to 0 in 2 secon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5276160" y="2209680"/>
            <a:ext cx="159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bod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musc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62120" y="2174760"/>
            <a:ext cx="4190760" cy="29307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V="1">
            <a:off x="7238880" y="4190760"/>
            <a:ext cx="91440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867280" y="4419720"/>
            <a:ext cx="91440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5441760" y="46483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ft (-z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6990480" y="3657600"/>
            <a:ext cx="15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ight (+z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4134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8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09480" y="1143000"/>
            <a:ext cx="7925040" cy="518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2743200"/>
            <a:ext cx="7315200" cy="10666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2057400"/>
            <a:ext cx="7315200" cy="5335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sired trajec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962520"/>
            <a:ext cx="7315200" cy="2057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nect model and 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sim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457200" y="528480"/>
            <a:ext cx="8229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Investigating movement control in OpenSi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2768760" y="1371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Example.cp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Desired trajectory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772400" y="152280"/>
            <a:ext cx="1143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7848720" y="380880"/>
            <a:ext cx="990360" cy="1526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7848720" y="228600"/>
            <a:ext cx="9903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7848720" y="609480"/>
            <a:ext cx="99036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015920" y="5060880"/>
          <a:ext cx="716292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920" y="5060880"/>
                    <a:ext cx="716292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7098480" y="3048120"/>
            <a:ext cx="2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1118880" y="1219320"/>
            <a:ext cx="68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ant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to go from 0 to +0.15 to -0.15 to 0 in 2 secon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5" name="Rectangle 3"/>
          <p:cNvGraphicFramePr/>
          <p:nvPr/>
        </p:nvGraphicFramePr>
        <p:xfrm>
          <a:off x="1749600" y="1600200"/>
          <a:ext cx="5433840" cy="3446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6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49600" y="1600200"/>
                    <a:ext cx="5433840" cy="34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2648520" y="1600200"/>
            <a:ext cx="58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Desired trajectory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772400" y="152280"/>
            <a:ext cx="1143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7848720" y="380880"/>
            <a:ext cx="990360" cy="1526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7848720" y="228600"/>
            <a:ext cx="9903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7848720" y="609480"/>
            <a:ext cx="99036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2286000"/>
            <a:ext cx="7925040" cy="4038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1316880" y="3276720"/>
            <a:ext cx="6285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siredModelZPosition(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 ) 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// z_des(t) = 0.15 sin( pi * t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0.15 * sin( Pi * t 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5" name="Rectangle 3"/>
          <p:cNvGraphicFramePr/>
          <p:nvPr/>
        </p:nvGraphicFramePr>
        <p:xfrm>
          <a:off x="2057400" y="1373040"/>
          <a:ext cx="4724280" cy="67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3040"/>
                    <a:ext cx="4724280" cy="6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2768760" y="2514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Example.cp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09480" y="1143000"/>
            <a:ext cx="7925040" cy="518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2743200"/>
            <a:ext cx="7315200" cy="10666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2057400"/>
            <a:ext cx="7315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sired trajec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3962520"/>
            <a:ext cx="7315200" cy="2057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nect model and 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sim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457200" y="528480"/>
            <a:ext cx="8229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Investigating movement control in OpenSi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2768760" y="1371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Example.cp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set>
                                      <p:cBhvr>
                                        <p:cTn id="1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01:29:00Z</dcterms:created>
  <dc:creator>Ajay</dc:creator>
  <dc:description/>
  <dc:language>en-US</dc:language>
  <cp:lastModifiedBy>Chand</cp:lastModifiedBy>
  <dcterms:modified xsi:type="dcterms:W3CDTF">2009-10-28T04:59:18Z</dcterms:modified>
  <cp:revision>765</cp:revision>
  <dc:subject/>
  <dc:title>Slide 1</dc:title>
</cp:coreProperties>
</file>