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3A8-01C3-467E-9CCE-1BF17A4C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5CA-68C4-42DF-A788-C6DEC23B4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F484-875A-451C-B2F5-21AA20C3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ADC-9180-4E89-842B-B41387F9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12D2-FE3D-4A31-BD91-26D9AEC8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93F-0563-43EF-AE83-880FAB3A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5937-FE6C-4011-B951-6EB4E64B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B72-C0CC-4FBA-80EA-257BAC81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FC51-589F-45CC-B4C2-CA5E2DB6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359-BB53-4F3E-AB72-51041D6B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C25B-8B18-498C-B126-CD116B42F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24160" y="647676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 flipV="1">
            <a:off x="228600" y="5791680"/>
            <a:ext cx="8686800" cy="74520"/>
          </a:xfrm>
          <a:prstGeom prst="rect">
            <a:avLst/>
          </a:prstGeom>
          <a:solidFill>
            <a:srgbClr val="ca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400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rcRect l="0" t="3341" r="0" b="2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d0d"/>
                </a:solidFill>
                <a:latin typeface="Verdana"/>
              </a:rPr>
              <a:t>Controller for Maintaining Balance</a:t>
            </a:r>
            <a:endParaRPr b="1" lang="en-US" sz="28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E/ME 485: Modeling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ulation of Human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hel Johns and Chris Pl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knowledgem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jay Se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Uch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t De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Jaco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to design a controller that uses IAA to maintain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with Gait2392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general enough to work with other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ccelerating the COM to the desired location sufficient to maintain bal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AA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IAA with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IAA 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muscle forces for desired COM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with multiple mode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DOF blo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fewer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more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ler layo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AAController(Kp, Kv, &amp;osim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a copy of the model, with the controllers and visualizer rem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opy is used for IAA and calculating CoM accel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or: RungeKuttaM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better with fixed time steps (accuracy untes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s desired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s Ax = B to find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matrix of induc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=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forces to produce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ed by 1/Fmax and muscle limits are enfor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norm minimization with equality constraints - Min ||Wx||; subject to Ax =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1447920" y="1905120"/>
                <a:ext cx="5897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ravit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1905120" y="5867280"/>
                <a:ext cx="509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57927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controller to 3DOF block and more complicated standing mod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13412" t="10428" r="15770" b="9426"/>
          <a:stretch/>
        </p:blipFill>
        <p:spPr>
          <a:xfrm>
            <a:off x="1066680" y="2590920"/>
            <a:ext cx="3510000" cy="335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rcRect l="38158" t="0" r="0" b="14935"/>
          <a:stretch/>
        </p:blipFill>
        <p:spPr>
          <a:xfrm>
            <a:off x="6248520" y="609480"/>
            <a:ext cx="2011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eded in controlling 3DOF b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mpts to keep standing model upright but strugg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speed too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perly treating muscle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A controller works but the standing models hav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s for fixing probl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ngle of tor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ll generalized coordin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future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treat muscle 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nonstandard usage of OpenSim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ot contact model instead of we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ient controller compatible with man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resistance to pertur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different balance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results to activation patterns in lit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3:11:50Z</dcterms:created>
  <dc:creator>David Delp</dc:creator>
  <dc:description/>
  <dc:language>en-US</dc:language>
  <cp:lastModifiedBy>Christopher Ploch</cp:lastModifiedBy>
  <dcterms:modified xsi:type="dcterms:W3CDTF">2013-06-07T07:43:52Z</dcterms:modified>
  <cp:revision>210</cp:revision>
  <dc:subject/>
  <dc:title>PowerPoint Presentation</dc:title>
</cp:coreProperties>
</file>